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24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7600" y="122076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24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7600" y="3948840"/>
            <a:ext cx="26744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320"/>
            <a:ext cx="871560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6800" y="394884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6800" y="1220760"/>
            <a:ext cx="405324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8840"/>
            <a:ext cx="8305920" cy="24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5920" cy="522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320"/>
            <a:ext cx="8715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7760" y="640044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0B716D4-FD2A-4FD8-B744-8C7B405AD3A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67360" y="6391080"/>
            <a:ext cx="686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 36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Top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 Ov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7720" y="6500880"/>
            <a:ext cx="1568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cture13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17800" y="762120"/>
            <a:ext cx="1736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CS 367</a:t>
            </a:r>
            <a:endParaRPr b="0" lang="en-US" sz="3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10666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4724280"/>
            <a:ext cx="7848720" cy="155412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ush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3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  80483e4 &lt;_init+0x50&gt;  # 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0xffffffe8(%ebp),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pop    %ebp</a:t>
            </a:r>
            <a:r>
              <a:rPr b="1" lang="en-US" sz="16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%ebp gets set to invalid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9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7240" y="43434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ch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2986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200400" y="1143000"/>
            <a:ext cx="3689280" cy="3352680"/>
            <a:chOff x="3200400" y="1143000"/>
            <a:chExt cx="3689280" cy="3352680"/>
          </a:xfrm>
        </p:grpSpPr>
        <p:sp>
          <p:nvSpPr>
            <p:cNvPr id="216" name=""/>
            <p:cNvSpPr/>
            <p:nvPr/>
          </p:nvSpPr>
          <p:spPr>
            <a:xfrm>
              <a:off x="5489640" y="259092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200400" y="2743200"/>
              <a:ext cx="762120" cy="175248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2520" y="228600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62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4340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280" y="289548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520" y="289548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7840" y="28954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2520" y="114300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62520" y="320040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62520" y="2286000"/>
              <a:ext cx="1523880" cy="914400"/>
              <a:chOff x="3962520" y="2286000"/>
              <a:chExt cx="1523880" cy="9144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62520" y="2590920"/>
                <a:ext cx="1523880" cy="304560"/>
                <a:chOff x="3962520" y="2590920"/>
                <a:chExt cx="1523880" cy="3045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62520" y="259092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343400" y="259092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724280" y="2590920"/>
                  <a:ext cx="38124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05520" y="2590920"/>
                  <a:ext cx="380880" cy="30456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962520" y="2286000"/>
                <a:ext cx="1523880" cy="304920"/>
                <a:chOff x="3962520" y="2286000"/>
                <a:chExt cx="1523880" cy="3049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962520" y="228600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43400" y="228600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24280" y="2286000"/>
                  <a:ext cx="38124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05520" y="228600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96252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340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724280" y="289548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05520" y="289548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962520" y="114300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5800" y="1066680"/>
            <a:ext cx="2651400" cy="3124440"/>
            <a:chOff x="685800" y="1066680"/>
            <a:chExt cx="2651400" cy="3124440"/>
          </a:xfrm>
        </p:grpSpPr>
        <p:sp>
          <p:nvSpPr>
            <p:cNvPr id="244" name=""/>
            <p:cNvSpPr/>
            <p:nvPr/>
          </p:nvSpPr>
          <p:spPr>
            <a:xfrm>
              <a:off x="685800" y="22096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" y="25146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5800" y="2819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2819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47920" y="2819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2819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11480" y="2819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2207880" y="2666880"/>
              <a:ext cx="38412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68680" y="2514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5800" y="10666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31240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10666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791320" y="3200400"/>
            <a:ext cx="2895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ved value of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t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bfff003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d news when later attempt to restor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137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45678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219320"/>
            <a:ext cx="2651040" cy="3124080"/>
            <a:chOff x="533520" y="1219320"/>
            <a:chExt cx="2651040" cy="3124080"/>
          </a:xfrm>
        </p:grpSpPr>
        <p:sp>
          <p:nvSpPr>
            <p:cNvPr id="260" name=""/>
            <p:cNvSpPr/>
            <p:nvPr/>
          </p:nvSpPr>
          <p:spPr>
            <a:xfrm>
              <a:off x="533520" y="2362320"/>
              <a:ext cx="152388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520" y="266688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5280" y="29718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76520" y="29718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884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053800" y="2819520"/>
              <a:ext cx="3841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16040" y="2666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121932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27672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121932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21932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95480" y="1295280"/>
            <a:ext cx="3994200" cy="4321080"/>
            <a:chOff x="2895480" y="1295280"/>
            <a:chExt cx="3994200" cy="4321080"/>
          </a:xfrm>
        </p:grpSpPr>
        <p:sp>
          <p:nvSpPr>
            <p:cNvPr id="274" name=""/>
            <p:cNvSpPr/>
            <p:nvPr/>
          </p:nvSpPr>
          <p:spPr>
            <a:xfrm>
              <a:off x="5489640" y="27432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200400" y="2894040"/>
              <a:ext cx="762120" cy="175248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62520" y="24382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2520" y="27432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2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30481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30481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87840" y="3048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520" y="12952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62520" y="33526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962520" y="2438280"/>
              <a:ext cx="1523880" cy="914400"/>
              <a:chOff x="3962520" y="2438280"/>
              <a:chExt cx="1523880" cy="914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962520" y="2743200"/>
                <a:ext cx="1523880" cy="304920"/>
                <a:chOff x="3962520" y="2743200"/>
                <a:chExt cx="1523880" cy="3049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962520" y="274320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343400" y="274320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7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724280" y="2743200"/>
                  <a:ext cx="38124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105520" y="274320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35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962520" y="2438280"/>
                <a:ext cx="1523880" cy="304920"/>
                <a:chOff x="3962520" y="2438280"/>
                <a:chExt cx="1523880" cy="3049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962520" y="243828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343400" y="243828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24280" y="2438280"/>
                  <a:ext cx="38124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105520" y="243828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600" spc="-1" strike="noStrike">
                      <a:solidFill>
                        <a:srgbClr val="a50021"/>
                      </a:solidFill>
                      <a:latin typeface="Courier New"/>
                    </a:rPr>
                    <a:t>00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3962520" y="3048120"/>
                <a:ext cx="38088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43400" y="3048120"/>
                <a:ext cx="38088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24280" y="3048120"/>
                <a:ext cx="38124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05520" y="3048120"/>
                <a:ext cx="38088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3962520" y="12952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86400" y="2590920"/>
              <a:ext cx="762120" cy="2666880"/>
            </a:xfrm>
            <a:custGeom>
              <a:avLst/>
              <a:gdLst/>
              <a:ahLst/>
              <a:rect l="l" t="t" r="r" b="b"/>
              <a:pathLst>
                <a:path w="640" h="2016">
                  <a:moveTo>
                    <a:pt x="0" y="0"/>
                  </a:moveTo>
                  <a:cubicBezTo>
                    <a:pt x="192" y="80"/>
                    <a:pt x="384" y="160"/>
                    <a:pt x="480" y="336"/>
                  </a:cubicBezTo>
                  <a:cubicBezTo>
                    <a:pt x="576" y="512"/>
                    <a:pt x="640" y="776"/>
                    <a:pt x="576" y="1056"/>
                  </a:cubicBezTo>
                  <a:cubicBezTo>
                    <a:pt x="512" y="1336"/>
                    <a:pt x="176" y="1856"/>
                    <a:pt x="96" y="2016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61440" y="4495680"/>
              <a:ext cx="1756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valid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5029200"/>
              <a:ext cx="2590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 longer pointing to desired return poi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400800" y="3733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return address corrup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26640" y="228600"/>
            <a:ext cx="77598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licious Use of Buffer Over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5486040"/>
            <a:ext cx="825516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58720" indent="-2206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string contains byte representation of executable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verwrite return address with address of buff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58720" indent="-2206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727200"/>
                <a:tab algn="l" pos="1641600"/>
                <a:tab algn="l" pos="2556000"/>
                <a:tab algn="l" pos="3470400"/>
                <a:tab algn="l" pos="4384800"/>
                <a:tab algn="l" pos="5299200"/>
                <a:tab algn="l" pos="6213600"/>
                <a:tab algn="l" pos="7128000"/>
                <a:tab algn="l" pos="8042400"/>
                <a:tab algn="l" pos="8956800"/>
                <a:tab algn="l" pos="987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execute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ill jump to exploit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416400"/>
            <a:ext cx="2438280" cy="14605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bar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buf[64]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buf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1971720"/>
            <a:ext cx="1828800" cy="1186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o()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21120" y="749160"/>
            <a:ext cx="299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call to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9400" y="2819520"/>
            <a:ext cx="1066680" cy="380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9400" y="1600200"/>
            <a:ext cx="10666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72400" y="16002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89680" y="3200400"/>
            <a:ext cx="211320" cy="2209680"/>
          </a:xfrm>
          <a:custGeom>
            <a:avLst/>
            <a:gdLst>
              <a:gd name="textAreaLeft" fmla="*/ 0 w 211320"/>
              <a:gd name="textAreaRight" fmla="*/ 76320 w 2113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9400" y="4788000"/>
            <a:ext cx="1066680" cy="62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-47520" y="2273760"/>
            <a:ext cx="105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2730600"/>
            <a:ext cx="533520" cy="14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152840" y="220824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o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9640" y="4129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r stack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63680" y="4618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59320" y="4788000"/>
            <a:ext cx="304920" cy="14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27600" y="4137120"/>
            <a:ext cx="106704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lo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27600" y="3195720"/>
            <a:ext cx="1067040" cy="936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8080" y="2832120"/>
            <a:ext cx="76320" cy="1828800"/>
          </a:xfrm>
          <a:custGeom>
            <a:avLst/>
            <a:gdLst>
              <a:gd name="textAreaLeft" fmla="*/ 48960 w 76320"/>
              <a:gd name="textAreaRight" fmla="*/ 76320 w 763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62480" y="29890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 w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rly versions of the finger server (fingerd) us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read the argument sent by the cli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finger droh@cs.cmu.ed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m attacked fingerd server by sending phony argumen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finger “exploit-code  padding  new-return-addres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 code: executed a root shell on the victim machine with a direct TCP connection to the attack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ploits Based on Buffer Over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uffer overflow bugs allow remote machines to execute arbitrary code on victim machin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 W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OL exploited existing buffer overflow bug in AIM cli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it code: returned 4-byte signature (the bytes at some location in the AIM client) to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Microsoft changed code to match signature, AOL changed signature lo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43200" y="57240"/>
            <a:ext cx="36576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304560"/>
            <a:ext cx="8001000" cy="60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Date: Wed, 11 Aug 1999 11:30:57 -0700 (PDT)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om: Phil Bucking &lt;philbucking@yahoo.com&gt;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ubject: AOL exploiting buffer overrun bug in their own software!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o: rms@pharlap.com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r. Smith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writing you because I have discovered something that I think you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ight find interesting because you are an Internet security expert with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experience in this area. I have also tried to contact AOL but received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no response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 am a developer who has been working on a revolutionary new instant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essaging client that should be released later this yea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 appears that the AIM client has a buffer overrun bug. By itself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this might not be the end of the world, as MS surely has had its share.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t AOL is now *exploiting their own buffer overrun bug* to help in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its efforts to block MS Instant Messenger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...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 you have significant credibility with the press I hope that you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an use this information to help inform people that behind AOL's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riendly exterior they are nefariously compromising peoples' security.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Sincerely,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 Buck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Founder, Bucking Consulting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philbucking@yahoo.com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56386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t was later determined that this email originated from within Microsoft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W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ne 18, 2001.  Microsoft announces buffer overflow vulnerability in IIS Inter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ly 19, 2001. over 250,000 machines infected by new virus in 9 hou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te house must change its IP address.  Pentagon shut down public WWW servers for d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We Set Up CS:APP Web S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ived strings of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GET /default.ida?NNNNNNNNNNNNNNNNNNNNNNNNNNNNNNNNNNNNNNN....NNNNNNNNNNNNNNNNNNNNNNNNNNNNNNNNNNNNNNNNN%u9090%u6858%ucbd3%u7801%u9090%u6858%ucbd3%u7801%u9090%u6858%ucbd3%u7801%u9090%u9090%u8190%u00c3%u0003%u8b00%u531b%u53ff%u0078%u0000%u00=a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HTTP/1.0" 400 325 "-" "-"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xploi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597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100 thread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read sel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 random IP addresses &amp; send attack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1st &amp; 19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tack www.whitehouse.gov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nd 98,304 packets; sleep for 4-1/2 hours; repe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ial of service attac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ween 21st &amp; 27th of mon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ce server’s home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fter waiting 2 hou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800600" y="3352680"/>
            <a:ext cx="38941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Red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ter Version Even More Mal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of April, 2002, over 18,000 machines inf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pre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ved Way for NIMD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ety of propagation metho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was to exploit vulnerabilities left behind by Code Red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Overflow Vulnerabi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90520" y="3962520"/>
            <a:ext cx="8307360" cy="24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Library Routines that Limit Str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ncpy instead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c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ion specif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read the st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160020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fgets(buf, 4, stdin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46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vember, 1988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et Worm attacks thousands of Internet ho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July,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launches MSN Messenger (instant messaging system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enger clients can access popular AOL Instant Messaging Service (AIM)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64720" y="482688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46640" y="382032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3240" y="5877720"/>
            <a:ext cx="109980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09360" y="4826880"/>
            <a:ext cx="1099800" cy="90828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3440" y="4826880"/>
            <a:ext cx="1220760" cy="9082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S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5273640"/>
            <a:ext cx="685800" cy="1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97640" y="5273640"/>
            <a:ext cx="685800" cy="1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572000"/>
            <a:ext cx="304920" cy="3808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170400" y="5638680"/>
            <a:ext cx="384120" cy="3049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324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6643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86: first computer to implement IEEE F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parate 8087 FPU (floating point uni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86: merged FPU and Integer Unit onto one c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to add, multiply, and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ous control &amp; status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32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 (C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: 80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1447920"/>
            <a:ext cx="167616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er 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quen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48520" y="3733920"/>
            <a:ext cx="11430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4343400"/>
            <a:ext cx="144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4343400"/>
            <a:ext cx="1440" cy="5335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3048120"/>
            <a:ext cx="144792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3800" y="2438280"/>
            <a:ext cx="1440" cy="6098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0" y="3048120"/>
            <a:ext cx="1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05920" y="3048120"/>
            <a:ext cx="144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4876920"/>
            <a:ext cx="1905120" cy="99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6931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Data Register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79080" y="1364760"/>
            <a:ext cx="6211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U register format (extended precision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373400" y="1903320"/>
            <a:ext cx="5635800" cy="611280"/>
            <a:chOff x="1373400" y="1903320"/>
            <a:chExt cx="5635800" cy="611280"/>
          </a:xfrm>
        </p:grpSpPr>
        <p:sp>
          <p:nvSpPr>
            <p:cNvPr id="357" name=""/>
            <p:cNvSpPr/>
            <p:nvPr/>
          </p:nvSpPr>
          <p:spPr>
            <a:xfrm>
              <a:off x="1447920" y="2209680"/>
              <a:ext cx="30456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22096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66880" y="2209680"/>
              <a:ext cx="4267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29480" y="1903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272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412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832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8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73400" y="19051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79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533520" y="2590920"/>
            <a:ext cx="411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PU regist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8 register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Logically forms shallow sta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Top called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  <a:ea typeface="MS Gothic"/>
              </a:rPr>
              <a:t>%st(0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6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1300320"/>
                <a:tab algn="l" pos="2214720"/>
                <a:tab algn="l" pos="3129120"/>
                <a:tab algn="l" pos="4043520"/>
                <a:tab algn="l" pos="4957920"/>
                <a:tab algn="l" pos="5872320"/>
                <a:tab algn="l" pos="6786720"/>
                <a:tab algn="l" pos="7701120"/>
                <a:tab algn="l" pos="8615520"/>
                <a:tab algn="l" pos="9529920"/>
                <a:tab algn="l" pos="10444320"/>
                <a:tab algn="l" pos="105156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MS Gothic"/>
              </a:rPr>
              <a:t>When push too many, bottom values disappe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96720" y="5791320"/>
            <a:ext cx="193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grows dow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114800" y="4495680"/>
            <a:ext cx="4495320" cy="1282680"/>
            <a:chOff x="4114800" y="4495680"/>
            <a:chExt cx="4495320" cy="1282680"/>
          </a:xfrm>
        </p:grpSpPr>
        <p:sp>
          <p:nvSpPr>
            <p:cNvPr id="368" name=""/>
            <p:cNvSpPr/>
            <p:nvPr/>
          </p:nvSpPr>
          <p:spPr>
            <a:xfrm>
              <a:off x="5565600" y="4495680"/>
              <a:ext cx="2152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14800" y="5410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op”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57800" y="5562720"/>
              <a:ext cx="30492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62720" y="4800600"/>
              <a:ext cx="2152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62720" y="5105520"/>
              <a:ext cx="21524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62720" y="5410080"/>
              <a:ext cx="215244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57800" y="4495680"/>
              <a:ext cx="2743200" cy="1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97880" y="54100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0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97880" y="51055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1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97880" y="4800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2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97880" y="44956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Courier New"/>
                </a:rPr>
                <a:t>%st(3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832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U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rge number of floating point instructions and forma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50 basic instruction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, store, add, multip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, cos, tan, arctan, and lo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ple instru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7520" y="4038480"/>
            <a:ext cx="8489520" cy="20566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733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33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0.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33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ds 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ush 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single precision re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33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muls 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0) &lt;- %st(0)*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33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add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st(1) &lt;- %st(0)+%st(1); po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 and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7733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5182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 Inner Product of Two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3048120"/>
            <a:ext cx="3502080" cy="30092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ipf (float x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y[]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loat result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sult += x[i] * y[i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63880" y="1371600"/>
            <a:ext cx="5087880" cy="4995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p              # setu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sp,%ebp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bx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bx       # %ebx=&amp;x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cx      # %ecx=&amp;y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6(%ebp),%edx      # %edx=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z                    # push +0.0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xorl %eax,%eax          # i=0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gt;=n don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ge .L3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5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lds (%ebx,%eax,4)      # push x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muls (%ecx,%eax,4)     # st(0)*=y[i]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faddp                   # st(1)+=st(0); p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ax               # i++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mpl %edx,%eax          # if i&lt;n repeat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5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3: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-4(%ebp),%ebx      # finish     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bp, 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t                     # st(0) = 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580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ner Product Stack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8880" y="126360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z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16444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5200" y="1644480"/>
            <a:ext cx="27432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5280" y="1644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62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3124080"/>
            <a:ext cx="27432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852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430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7528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88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5200" y="4343400"/>
            <a:ext cx="2743200" cy="1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7528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397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7204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8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.0+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5200" y="5638680"/>
            <a:ext cx="27432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7528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2743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lds (%eb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9640" y="3124080"/>
            <a:ext cx="2152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3124080"/>
            <a:ext cx="27432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920" y="3124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86400" y="34290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18680" y="3429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02280" y="396252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muls (%ecx,%eax,4)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86400" y="434340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78600" y="4343400"/>
            <a:ext cx="2743200" cy="1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18680" y="4343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3160" y="4648320"/>
            <a:ext cx="21528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15440" y="4648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02280" y="5257800"/>
            <a:ext cx="129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faddp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5638680"/>
            <a:ext cx="2152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78600" y="5638680"/>
            <a:ext cx="27432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97880" y="5638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%st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2760" y="6019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x[0]*y[0]+x[1]*y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160" y="806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460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14720" y="22096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eration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0832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nal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ing with Strang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to analyze nonstandard c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what happens when stack corrupted due to buffer overflow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to step through with GD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A32 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nge “shallow stack”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197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net Worm and IM War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199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ysteriously, Messenger clients can no longer access AIM serve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crosoft and AOL begin the IM wa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OL changes server to disallow Messenger cli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crosoft makes changes to clients to defeat AOL chan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least 13 such skirmish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id it happ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Worm and AOL/Microsoft War were both based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tack buffer overflow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exploit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Unix functions do not check argument siz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85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target buffers to overflow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ing Librar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1200" cy="58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ation of Unix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way to specify limit on number of characters to r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6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problems with other Unix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cp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Copies string of arbitrary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65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scanf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when giv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nversion spec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905120"/>
            <a:ext cx="5410080" cy="3380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Get string from stdi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gets(char *dest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int 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har *p =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while (c != EOF &amp;&amp; c != '\n'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++ =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 = getc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*p = '\0'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return des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ulnerable Buff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3733920"/>
            <a:ext cx="4495680" cy="17348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int main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printf("Type a string:"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echo(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return 0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219320"/>
            <a:ext cx="541008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0920" y="228600"/>
            <a:ext cx="641340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ecu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5238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74320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038480"/>
            <a:ext cx="5410080" cy="911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unix&gt;./bufdem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Type a string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1234567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egmentation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897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429000"/>
            <a:ext cx="69343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echo: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p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movl %esp,%ebp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subl $20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Save %ebx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addl $-12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Allocate space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  <a:ea typeface="MS Mincho"/>
              </a:rPr>
              <a:t>leal -4(%ebp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ompute buf as %ebp-4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pushl 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Push buf on stack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call get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# Call gets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990720"/>
            <a:ext cx="5410440" cy="20091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/* Echo Line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void echo()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char buf[4];  /* Way too small! */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ge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    puts(buf);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04920" y="990720"/>
            <a:ext cx="2651040" cy="3124080"/>
            <a:chOff x="304920" y="990720"/>
            <a:chExt cx="2651040" cy="3124080"/>
          </a:xfrm>
        </p:grpSpPr>
        <p:sp>
          <p:nvSpPr>
            <p:cNvPr id="108" name=""/>
            <p:cNvSpPr/>
            <p:nvPr/>
          </p:nvSpPr>
          <p:spPr>
            <a:xfrm>
              <a:off x="304920" y="2133720"/>
              <a:ext cx="152388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243828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27432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7920" y="27432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0240" y="2743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825200" y="2590920"/>
              <a:ext cx="3841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7440" y="24382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99072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304812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920" y="99072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530880" cy="16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Stack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2520" y="297180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87720" y="152280"/>
            <a:ext cx="4813560" cy="228420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gdb bufdem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break ech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 at 0x80485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r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point 1, 0x8048583 in echo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unsigned *)$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1 = 0xbffff8f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gdb)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rint /x *((unsigned *)$ebp + 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$3 = 0x804864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791320"/>
            <a:ext cx="662940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8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804857c &lt;echo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4240"/>
                <a:tab algn="l" pos="3144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64d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  0xffffffe8(%ebp),%ebx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# Return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43000" y="2590920"/>
            <a:ext cx="2651400" cy="3124080"/>
            <a:chOff x="1143000" y="2590920"/>
            <a:chExt cx="2651400" cy="3124080"/>
          </a:xfrm>
        </p:grpSpPr>
        <p:sp>
          <p:nvSpPr>
            <p:cNvPr id="125" name=""/>
            <p:cNvSpPr/>
            <p:nvPr/>
          </p:nvSpPr>
          <p:spPr>
            <a:xfrm>
              <a:off x="1143000" y="3733920"/>
              <a:ext cx="152388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43000" y="403848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4300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868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665080" y="4191120"/>
              <a:ext cx="38412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25880" y="40384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259092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4648320"/>
              <a:ext cx="152388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2590920"/>
              <a:ext cx="152388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191120" y="2590920"/>
            <a:ext cx="3688920" cy="3124080"/>
            <a:chOff x="4191120" y="2590920"/>
            <a:chExt cx="3688920" cy="3124080"/>
          </a:xfrm>
        </p:grpSpPr>
        <p:sp>
          <p:nvSpPr>
            <p:cNvPr id="138" name=""/>
            <p:cNvSpPr/>
            <p:nvPr/>
          </p:nvSpPr>
          <p:spPr>
            <a:xfrm>
              <a:off x="6480000" y="403848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91120" y="2676600"/>
              <a:ext cx="76176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52880" y="3733920"/>
              <a:ext cx="1524240" cy="3045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2880" y="4038480"/>
              <a:ext cx="152424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412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4343400"/>
              <a:ext cx="38088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4343400"/>
              <a:ext cx="381240" cy="30492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785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2590920"/>
              <a:ext cx="152424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2880" y="4648320"/>
              <a:ext cx="1524240" cy="10666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952880" y="3733920"/>
              <a:ext cx="1524240" cy="914400"/>
              <a:chOff x="4952880" y="3733920"/>
              <a:chExt cx="1524240" cy="914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4952880" y="4038480"/>
                <a:ext cx="1524240" cy="304920"/>
                <a:chOff x="4952880" y="4038480"/>
                <a:chExt cx="1524240" cy="304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952880" y="4038480"/>
                  <a:ext cx="38124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334120" y="403848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715000" y="403848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095880" y="4038480"/>
                  <a:ext cx="38124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952880" y="3733920"/>
                <a:ext cx="1524240" cy="304560"/>
                <a:chOff x="4952880" y="3733920"/>
                <a:chExt cx="1524240" cy="3045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952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3412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15000" y="3733920"/>
                  <a:ext cx="38088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3733920"/>
                  <a:ext cx="381240" cy="30456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4952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3412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15000" y="4343400"/>
                <a:ext cx="38088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95880" y="4343400"/>
                <a:ext cx="381240" cy="3049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952880" y="2590920"/>
              <a:ext cx="1524240" cy="31240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81056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 Overflow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0520" y="167652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Cal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46560" y="175248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put = “123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00640" y="55627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 Proble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460760" y="2209680"/>
            <a:ext cx="3689280" cy="3124440"/>
            <a:chOff x="4460760" y="2209680"/>
            <a:chExt cx="3689280" cy="3124440"/>
          </a:xfrm>
        </p:grpSpPr>
        <p:sp>
          <p:nvSpPr>
            <p:cNvPr id="170" name=""/>
            <p:cNvSpPr/>
            <p:nvPr/>
          </p:nvSpPr>
          <p:spPr>
            <a:xfrm>
              <a:off x="6750000" y="3657600"/>
              <a:ext cx="140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0xbffff8d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60760" y="2295360"/>
              <a:ext cx="762120" cy="1514520"/>
            </a:xfrm>
            <a:custGeom>
              <a:avLst/>
              <a:gdLst/>
              <a:ahLst/>
              <a:rect l="l" t="t" r="r" b="b"/>
              <a:pathLst>
                <a:path w="480" h="954">
                  <a:moveTo>
                    <a:pt x="480" y="954"/>
                  </a:moveTo>
                  <a:cubicBezTo>
                    <a:pt x="352" y="922"/>
                    <a:pt x="224" y="890"/>
                    <a:pt x="144" y="810"/>
                  </a:cubicBezTo>
                  <a:cubicBezTo>
                    <a:pt x="64" y="730"/>
                    <a:pt x="0" y="594"/>
                    <a:pt x="0" y="474"/>
                  </a:cubicBezTo>
                  <a:cubicBezTo>
                    <a:pt x="0" y="354"/>
                    <a:pt x="65" y="169"/>
                    <a:pt x="144" y="90"/>
                  </a:cubicBezTo>
                  <a:cubicBezTo>
                    <a:pt x="223" y="11"/>
                    <a:pt x="405" y="19"/>
                    <a:pt x="474" y="0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22880" y="33526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22880" y="36576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2288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0376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8500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6588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85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22880" y="22096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22880" y="42670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22880" y="3352680"/>
              <a:ext cx="1523880" cy="914400"/>
              <a:chOff x="5222880" y="3352680"/>
              <a:chExt cx="1523880" cy="9144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5222880" y="3657600"/>
                <a:ext cx="1523880" cy="304920"/>
                <a:chOff x="5222880" y="3657600"/>
                <a:chExt cx="1523880" cy="3049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222880" y="365760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b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603760" y="3657600"/>
                  <a:ext cx="38124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f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985000" y="365760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65880" y="3657600"/>
                  <a:ext cx="380880" cy="304920"/>
                </a:xfrm>
                <a:prstGeom prst="rect">
                  <a:avLst/>
                </a:prstGeom>
                <a:solidFill>
                  <a:srgbClr val="ffff66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f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222880" y="3352680"/>
                <a:ext cx="1523880" cy="304920"/>
                <a:chOff x="5222880" y="3352680"/>
                <a:chExt cx="1523880" cy="3049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22880" y="335268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8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603760" y="3352680"/>
                  <a:ext cx="38124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04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985000" y="335268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8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65880" y="3352680"/>
                  <a:ext cx="380880" cy="304920"/>
                </a:xfrm>
                <a:prstGeom prst="rect">
                  <a:avLst/>
                </a:prstGeom>
                <a:solidFill>
                  <a:srgbClr val="ffcccc"/>
                </a:solidFill>
                <a:ln w="190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Courier New"/>
                    </a:rPr>
                    <a:t>4d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5222880" y="3962520"/>
                <a:ext cx="38088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03760" y="3962520"/>
                <a:ext cx="38124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85000" y="3962520"/>
                <a:ext cx="38088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65880" y="3962520"/>
                <a:ext cx="380880" cy="3045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1600" spc="-1" strike="noStrike">
                    <a:solidFill>
                      <a:srgbClr val="a50021"/>
                    </a:solidFill>
                    <a:latin typeface="Courier New"/>
                  </a:rPr>
                  <a:t>3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5222880" y="22096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536840" y="2209680"/>
            <a:ext cx="2651040" cy="3124440"/>
            <a:chOff x="1536840" y="2209680"/>
            <a:chExt cx="2651040" cy="3124440"/>
          </a:xfrm>
        </p:grpSpPr>
        <p:sp>
          <p:nvSpPr>
            <p:cNvPr id="198" name=""/>
            <p:cNvSpPr/>
            <p:nvPr/>
          </p:nvSpPr>
          <p:spPr>
            <a:xfrm>
              <a:off x="1536840" y="3352680"/>
              <a:ext cx="1523880" cy="30492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6840" y="3657600"/>
              <a:ext cx="1523880" cy="3049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aved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3684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1772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98600" y="3962520"/>
              <a:ext cx="38124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79840" y="3962520"/>
              <a:ext cx="380880" cy="30456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62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bu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057120" y="3809880"/>
              <a:ext cx="384120" cy="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19360" y="36576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36840" y="2209680"/>
              <a:ext cx="1523880" cy="114300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ma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36840" y="4267080"/>
              <a:ext cx="1523880" cy="10670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ra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or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ech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36840" y="2209680"/>
              <a:ext cx="1523880" cy="312444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Office 2004 Test Drive User</cp:lastModifiedBy>
  <cp:lastPrinted>2007-10-31T15:42:58Z</cp:lastPrinted>
  <dcterms:modified xsi:type="dcterms:W3CDTF">2007-10-31T15:43:09Z</dcterms:modified>
  <cp:revision>101</cp:revision>
  <dc:subject/>
  <dc:title>Machine Level Programming V</dc:title>
</cp:coreProperties>
</file>