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7760" y="640044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54F7BC6-8B32-43F2-B861-4DF8E1FEA9A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72040" y="6391080"/>
            <a:ext cx="686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 36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7720" y="6500880"/>
            <a:ext cx="156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cture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7800" y="762120"/>
            <a:ext cx="1736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S 367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20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4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8400" y="2819520"/>
            <a:ext cx="7918200" cy="1282680"/>
            <a:chOff x="608400" y="2819520"/>
            <a:chExt cx="7918200" cy="1282680"/>
          </a:xfrm>
        </p:grpSpPr>
        <p:sp>
          <p:nvSpPr>
            <p:cNvPr id="340" name=""/>
            <p:cNvSpPr/>
            <p:nvPr/>
          </p:nvSpPr>
          <p:spPr>
            <a:xfrm>
              <a:off x="60840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6920" y="2819520"/>
              <a:ext cx="6619680" cy="1282680"/>
              <a:chOff x="190692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720" y="35798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69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600" y="35798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3080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79840"/>
                <a:ext cx="180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62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720" y="35798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1016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600" y="35798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44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400" y="2819520"/>
                <a:ext cx="6095880" cy="761760"/>
                <a:chOff x="2057400" y="2819520"/>
                <a:chExt cx="609588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400" y="2819520"/>
                  <a:ext cx="1523880" cy="761760"/>
                  <a:chOff x="2057400" y="2819520"/>
                  <a:chExt cx="152388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4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2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8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4240" cy="761760"/>
                  <a:chOff x="3581280" y="2819520"/>
                  <a:chExt cx="152424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62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1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6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6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520" y="2819520"/>
                  <a:ext cx="1523880" cy="761760"/>
                  <a:chOff x="5105520" y="2819520"/>
                  <a:chExt cx="152388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5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100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50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9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4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400" y="2819520"/>
                  <a:ext cx="1523880" cy="761760"/>
                  <a:chOff x="6629400" y="2819520"/>
                  <a:chExt cx="152388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4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4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80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40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52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40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4434120" cy="41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[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][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]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6680" cy="2209680"/>
            <a:chOff x="4724280" y="990720"/>
            <a:chExt cx="4036680" cy="2209680"/>
          </a:xfrm>
        </p:grpSpPr>
        <p:sp>
          <p:nvSpPr>
            <p:cNvPr id="384" name=""/>
            <p:cNvSpPr/>
            <p:nvPr/>
          </p:nvSpPr>
          <p:spPr>
            <a:xfrm>
              <a:off x="4876920" y="1143000"/>
              <a:ext cx="1218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920" y="2666880"/>
              <a:ext cx="1218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2200" y="114300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520" y="26668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4120" y="1752480"/>
              <a:ext cx="4572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64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832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644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600" cy="990720"/>
            <a:chOff x="457200" y="5029200"/>
            <a:chExt cx="822960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720" cy="990720"/>
              <a:chOff x="457200" y="5029200"/>
              <a:chExt cx="2133720" cy="99072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84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72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920" y="5029200"/>
              <a:ext cx="2133360" cy="990720"/>
              <a:chOff x="2590920" y="5029200"/>
              <a:chExt cx="2133360" cy="99072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920" y="502920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800" y="502920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920" y="5029200"/>
                <a:ext cx="213336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720" cy="990720"/>
              <a:chOff x="6553080" y="5029200"/>
              <a:chExt cx="2133720" cy="99072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84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7320" y="502920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72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144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144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1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043600" cy="158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5160" cy="1523880"/>
            <a:chOff x="3657600" y="3733920"/>
            <a:chExt cx="2135160" cy="152388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720" cy="990720"/>
              <a:chOff x="3657600" y="4267080"/>
              <a:chExt cx="2133720" cy="990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84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72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5160" cy="1523880"/>
            <a:chOff x="6705720" y="3733920"/>
            <a:chExt cx="2135160" cy="152388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720"/>
              <a:chOff x="6705720" y="4267080"/>
              <a:chExt cx="2133360" cy="99072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18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1960"/>
            <a:ext cx="1800" cy="231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6000"/>
            <a:ext cx="1440" cy="231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5160" cy="1523880"/>
            <a:chOff x="533520" y="3733920"/>
            <a:chExt cx="2135160" cy="152388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720"/>
              <a:chOff x="533520" y="4267080"/>
              <a:chExt cx="2133360" cy="99072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18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2884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6000"/>
            <a:ext cx="1800" cy="231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35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144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144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144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1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5160" cy="1523880"/>
            <a:chOff x="6705720" y="3276720"/>
            <a:chExt cx="2135160" cy="152388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720"/>
              <a:chOff x="6705720" y="3809880"/>
              <a:chExt cx="2133360" cy="99072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18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5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4760"/>
            <a:ext cx="1800" cy="231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798800"/>
            <a:ext cx="1440" cy="231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5160" cy="1523880"/>
            <a:chOff x="533520" y="3276720"/>
            <a:chExt cx="2135160" cy="152388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720"/>
              <a:chOff x="533520" y="3809880"/>
              <a:chExt cx="2133360" cy="99072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7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144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18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656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798800"/>
            <a:ext cx="1800" cy="231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799160"/>
            <a:ext cx="1440" cy="612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 + 20*index + 4*di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 + 4*dig + 4*(index+4*index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998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60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3][3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3+4*3 = 148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2][5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2+4*5 = 136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2][-1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2+4*-1 = 11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4][-1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4+4*-1 = 15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0][19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0+4*19 = 15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1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gh[0][-1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76+20*0+4*-1 = 7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??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941480"/>
                <a:tab algn="l" pos="4976640"/>
                <a:tab algn="l" pos="594216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068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9200" y="1066680"/>
            <a:ext cx="6619680" cy="1282680"/>
            <a:chOff x="205920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70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920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7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30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70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85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70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280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7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668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2120"/>
              <a:chOff x="2209680" y="1066680"/>
              <a:chExt cx="6096240" cy="76212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2120"/>
                <a:chOff x="2209680" y="1066680"/>
                <a:chExt cx="1524240" cy="7621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880" cy="762120"/>
                <a:chOff x="3733920" y="1066680"/>
                <a:chExt cx="1523880" cy="7621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83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880" cy="762120"/>
                <a:chOff x="5257800" y="1066680"/>
                <a:chExt cx="1523880" cy="7621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7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22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71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2120"/>
                <a:chOff x="6781680" y="1066680"/>
                <a:chExt cx="1524240" cy="7621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2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21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21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21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21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52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0880" y="2412360"/>
            <a:ext cx="8305560" cy="3913920"/>
            <a:chOff x="380880" y="2412360"/>
            <a:chExt cx="8305560" cy="3913920"/>
          </a:xfrm>
        </p:grpSpPr>
        <p:grpSp>
          <p:nvGrpSpPr>
            <p:cNvPr id="554" name=""/>
            <p:cNvGrpSpPr/>
            <p:nvPr/>
          </p:nvGrpSpPr>
          <p:grpSpPr>
            <a:xfrm>
              <a:off x="380880" y="4191120"/>
              <a:ext cx="1981440" cy="1523880"/>
              <a:chOff x="380880" y="4191120"/>
              <a:chExt cx="1981440" cy="152388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920" y="45720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720" y="4724280"/>
                <a:ext cx="457200" cy="18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6720" y="4510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920" y="49528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920" y="53341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720" y="5105520"/>
                <a:ext cx="457200" cy="14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720" y="5486400"/>
                <a:ext cx="457200" cy="14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0880" y="4876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0880" y="53341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560" y="419112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4280"/>
                <a:ext cx="15264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400"/>
                <a:ext cx="15264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08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9400" y="4038480"/>
              <a:ext cx="5027040" cy="749520"/>
              <a:chOff x="3659400" y="4038480"/>
              <a:chExt cx="5027040" cy="7495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0560" cy="228600"/>
                <a:chOff x="3809880" y="4038480"/>
                <a:chExt cx="4570560" cy="22860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2840" y="40384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7240" y="40384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1640" y="40384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6040" y="40384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62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94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6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38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50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82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4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26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8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70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8200" y="426384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1400" y="44197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40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3560" y="4815000"/>
              <a:ext cx="5027040" cy="749160"/>
              <a:chOff x="3643560" y="4815000"/>
              <a:chExt cx="5027040" cy="7491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5000"/>
                <a:ext cx="4570560" cy="228600"/>
                <a:chOff x="3794040" y="4815000"/>
                <a:chExt cx="4570560" cy="2286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5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7000" y="4815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1400" y="4815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5800" y="4815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0200" y="4815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3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35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7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79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91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23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5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67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9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11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360" y="504036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5560" y="5195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080" y="52722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3560" y="5576760"/>
              <a:ext cx="5027040" cy="749520"/>
              <a:chOff x="3643560" y="5576760"/>
              <a:chExt cx="5027040" cy="74952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0560" cy="228600"/>
                <a:chOff x="3794040" y="5576760"/>
                <a:chExt cx="4570560" cy="228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7000" y="55767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1400" y="55767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5800" y="55767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0200" y="55767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3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35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7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79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91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23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5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67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9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11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360" y="580212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5560" y="5958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V="1">
              <a:off x="2057040" y="2412360"/>
              <a:ext cx="940680" cy="17406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6320" y="480024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>
              <a:off x="2057400" y="3749400"/>
              <a:ext cx="218160" cy="1724760"/>
            </a:xfrm>
            <a:prstGeom prst="curvedConnector5">
              <a:avLst>
                <a:gd name="adj1" fmla="val 49917"/>
                <a:gd name="adj2" fmla="val 50000"/>
                <a:gd name="adj3" fmla="val 49917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547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unsign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ch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unsign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shor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 wor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unsign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 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A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lo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ou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tend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/1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ong dou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400"/>
            <a:ext cx="8307360" cy="285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2960" indent="-21816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941480"/>
                <a:tab algn="l" pos="4227480"/>
                <a:tab algn="l" pos="6227640"/>
                <a:tab algn="l" pos="6265800"/>
                <a:tab algn="l" pos="7161120"/>
                <a:tab algn="l" pos="8056440"/>
                <a:tab algn="l" pos="8951760"/>
                <a:tab algn="l" pos="9847440"/>
                <a:tab algn="l" pos="107427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8600" y="-483120"/>
            <a:ext cx="8305560" cy="3913560"/>
            <a:chOff x="228600" y="-483120"/>
            <a:chExt cx="8305560" cy="3913560"/>
          </a:xfrm>
        </p:grpSpPr>
        <p:grpSp>
          <p:nvGrpSpPr>
            <p:cNvPr id="645" name=""/>
            <p:cNvGrpSpPr/>
            <p:nvPr/>
          </p:nvGrpSpPr>
          <p:grpSpPr>
            <a:xfrm>
              <a:off x="228600" y="1295280"/>
              <a:ext cx="1981080" cy="1524240"/>
              <a:chOff x="228600" y="1295280"/>
              <a:chExt cx="198108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14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444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18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14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860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860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492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180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7120" y="1143000"/>
              <a:ext cx="5027040" cy="749160"/>
              <a:chOff x="350712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9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71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83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15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7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59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71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503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5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47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920" y="136980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912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12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1280" y="1919160"/>
              <a:ext cx="5027040" cy="749520"/>
              <a:chOff x="3491280" y="1919160"/>
              <a:chExt cx="5027040" cy="74952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80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12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4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56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8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200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12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44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6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88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90080" y="214632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3280" y="23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180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1280" y="2681280"/>
              <a:ext cx="5027040" cy="749160"/>
              <a:chOff x="349128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80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12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4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56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8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200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12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44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6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88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90080" y="2908080"/>
                <a:ext cx="144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328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V="1">
              <a:off x="1905120" y="-483120"/>
              <a:ext cx="940320" cy="1740960"/>
            </a:xfrm>
            <a:prstGeom prst="curvedConnector5">
              <a:avLst>
                <a:gd name="adj1" fmla="val 49980"/>
                <a:gd name="adj2" fmla="val 49989"/>
                <a:gd name="adj3" fmla="val 49980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404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>
              <a:off x="1905120" y="852120"/>
              <a:ext cx="219600" cy="1724760"/>
            </a:xfrm>
            <a:prstGeom prst="curvedConnector5">
              <a:avLst>
                <a:gd name="adj1" fmla="val 49917"/>
                <a:gd name="adj2" fmla="val 50000"/>
                <a:gd name="adj3" fmla="val 49917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20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7960" y="4818240"/>
            <a:ext cx="3455640" cy="1658520"/>
            <a:chOff x="687960" y="4818240"/>
            <a:chExt cx="345564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000"/>
              <a:ext cx="58392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4600" y="535140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6360" y="4818240"/>
              <a:ext cx="867240" cy="1277640"/>
              <a:chOff x="327636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7720"/>
                <a:ext cx="180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636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128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0840"/>
              <a:ext cx="304920" cy="6127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796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2240"/>
              <a:ext cx="39852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3987720" cy="37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1640" y="4572000"/>
            <a:ext cx="3456000" cy="1658520"/>
            <a:chOff x="611640" y="4572000"/>
            <a:chExt cx="345600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428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82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200400" y="4572000"/>
              <a:ext cx="867240" cy="1277640"/>
              <a:chOff x="32004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400" y="4911840"/>
                <a:ext cx="144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2004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496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4960"/>
              <a:ext cx="304920" cy="6127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64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6000"/>
              <a:ext cx="39852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3240" y="3276720"/>
            <a:ext cx="2741400" cy="779040"/>
            <a:chOff x="495324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324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1044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168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88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3262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92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412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72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2960"/>
            <a:ext cx="144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9276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144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36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2283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2000" y="2057400"/>
            <a:ext cx="2440080" cy="1447920"/>
            <a:chOff x="4572000" y="2057400"/>
            <a:chExt cx="244008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2000" y="2286000"/>
              <a:ext cx="2440080" cy="779040"/>
              <a:chOff x="4572000" y="2286000"/>
              <a:chExt cx="244008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280" y="2286000"/>
                <a:ext cx="43200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480" y="2286000"/>
                <a:ext cx="134640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080" y="2286000"/>
                <a:ext cx="43200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200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920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80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1400"/>
              <a:ext cx="1800" cy="384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2000" y="1219320"/>
            <a:ext cx="2440080" cy="779040"/>
            <a:chOff x="4572000" y="1219320"/>
            <a:chExt cx="2440080" cy="779040"/>
          </a:xfrm>
        </p:grpSpPr>
        <p:sp>
          <p:nvSpPr>
            <p:cNvPr id="821" name=""/>
            <p:cNvSpPr/>
            <p:nvPr/>
          </p:nvSpPr>
          <p:spPr>
            <a:xfrm>
              <a:off x="4751280" y="1219320"/>
              <a:ext cx="43200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480" y="1219320"/>
              <a:ext cx="134640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080" y="1219320"/>
              <a:ext cx="43200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200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80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62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2960" indent="-2181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2960" indent="-2181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2960" indent="-2181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2960" indent="-2181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38400" indent="-163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38400" indent="-163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38400" indent="-163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2960" indent="-2181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0120" indent="-2919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38400" indent="-163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38400" indent="-163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3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[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]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79320" y="2590920"/>
            <a:ext cx="6102360" cy="839520"/>
            <a:chOff x="679320" y="2590920"/>
            <a:chExt cx="6102360" cy="839520"/>
          </a:xfrm>
        </p:grpSpPr>
        <p:sp>
          <p:nvSpPr>
            <p:cNvPr id="86" name=""/>
            <p:cNvSpPr/>
            <p:nvPr/>
          </p:nvSpPr>
          <p:spPr>
            <a:xfrm>
              <a:off x="67932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40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4040"/>
                <a:ext cx="144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8360" y="3352680"/>
            <a:ext cx="7242120" cy="839880"/>
            <a:chOff x="1368360" y="3352680"/>
            <a:chExt cx="7242120" cy="83988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9000"/>
              <a:ext cx="4572000" cy="228600"/>
              <a:chOff x="3200400" y="342900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90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90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90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90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90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836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4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1760"/>
              <a:ext cx="144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58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4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58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4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58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4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58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4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5800"/>
              <a:ext cx="144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4920" y="4038480"/>
            <a:ext cx="8378640" cy="1220760"/>
            <a:chOff x="574920" y="4038480"/>
            <a:chExt cx="8378640" cy="1220760"/>
          </a:xfrm>
        </p:grpSpPr>
        <p:sp>
          <p:nvSpPr>
            <p:cNvPr id="126" name=""/>
            <p:cNvSpPr/>
            <p:nvPr/>
          </p:nvSpPr>
          <p:spPr>
            <a:xfrm>
              <a:off x="57492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8440"/>
                <a:ext cx="180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2840"/>
                <a:ext cx="180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4040"/>
                <a:ext cx="1800" cy="23148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8440"/>
                <a:ext cx="180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8440"/>
                <a:ext cx="1800" cy="2318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5888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840" cy="763560"/>
            <a:chOff x="2666880" y="5638680"/>
            <a:chExt cx="289584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520" y="5638680"/>
              <a:ext cx="2743200" cy="228600"/>
              <a:chOff x="281952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52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92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832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9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1440"/>
              <a:ext cx="18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5840"/>
              <a:ext cx="18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5840"/>
              <a:ext cx="18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0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6976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0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184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79680"/>
            <a:ext cx="144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79680"/>
            <a:ext cx="1440" cy="384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6000"/>
            <a:ext cx="1440" cy="841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6000"/>
            <a:ext cx="1440" cy="841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568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296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228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4920"/>
              <a:ext cx="144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4920"/>
              <a:ext cx="144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7520"/>
              <a:ext cx="1800" cy="384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4560"/>
              <a:ext cx="1440" cy="384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856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788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2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7240"/>
              <a:ext cx="144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3200"/>
              <a:ext cx="1800" cy="384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52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7240"/>
              <a:ext cx="144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223920"/>
                  <a:tab algn="l" pos="1138320"/>
                  <a:tab algn="l" pos="2052720"/>
                  <a:tab algn="l" pos="2967120"/>
                  <a:tab algn="l" pos="3881520"/>
                  <a:tab algn="l" pos="4795920"/>
                  <a:tab algn="l" pos="5710320"/>
                  <a:tab algn="l" pos="6624720"/>
                  <a:tab algn="l" pos="7539120"/>
                  <a:tab algn="l" pos="8453520"/>
                  <a:tab algn="l" pos="9367920"/>
                  <a:tab algn="l" pos="10282320"/>
                  <a:tab algn="l" pos="105156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3200"/>
              <a:ext cx="1800" cy="384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7680" y="2819520"/>
            <a:ext cx="7903080" cy="1018440"/>
            <a:chOff x="607680" y="2819520"/>
            <a:chExt cx="7903080" cy="1018440"/>
          </a:xfrm>
        </p:grpSpPr>
        <p:sp>
          <p:nvSpPr>
            <p:cNvPr id="899" name=""/>
            <p:cNvSpPr/>
            <p:nvPr/>
          </p:nvSpPr>
          <p:spPr>
            <a:xfrm>
              <a:off x="60768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0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50052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7680" y="5410080"/>
            <a:ext cx="6750360" cy="744480"/>
            <a:chOff x="607680" y="5410080"/>
            <a:chExt cx="675036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768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0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068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712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496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1360" y="2819520"/>
            <a:ext cx="7817040" cy="667800"/>
            <a:chOff x="531360" y="2819520"/>
            <a:chExt cx="781704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136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368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24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32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000" y="5486400"/>
            <a:ext cx="5565960" cy="668160"/>
            <a:chOff x="684000" y="5486400"/>
            <a:chExt cx="556596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0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32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596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140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6984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7080" y="5257800"/>
            <a:ext cx="6614640" cy="659160"/>
            <a:chOff x="129708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708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80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8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77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984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6000" y="4114800"/>
            <a:ext cx="312732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440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86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672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00100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1000" indent="-1652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7160" y="5105520"/>
            <a:ext cx="358452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1640" y="5103720"/>
            <a:ext cx="1984320" cy="6127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8480" y="4800600"/>
            <a:ext cx="7161120" cy="684720"/>
            <a:chOff x="1068480" y="4800600"/>
            <a:chExt cx="71611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84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748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66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272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6960" y="4665600"/>
            <a:ext cx="7513920" cy="1658880"/>
            <a:chOff x="1326960" y="4665600"/>
            <a:chExt cx="7513920" cy="1658880"/>
          </a:xfrm>
        </p:grpSpPr>
        <p:sp>
          <p:nvSpPr>
            <p:cNvPr id="1001" name=""/>
            <p:cNvSpPr/>
            <p:nvPr/>
          </p:nvSpPr>
          <p:spPr>
            <a:xfrm flipH="1">
              <a:off x="1520640" y="4970520"/>
              <a:ext cx="3584520" cy="60948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6560" y="4968360"/>
              <a:ext cx="1984320" cy="61308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6960" y="4665600"/>
              <a:ext cx="7207560" cy="715680"/>
              <a:chOff x="1326960" y="4665600"/>
              <a:chExt cx="720756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520" y="4665600"/>
                <a:ext cx="18032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696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520" y="4665600"/>
                <a:ext cx="180324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572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532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432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71600" y="596124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3920" y="596124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520" y="55800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2012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1600" y="6475320"/>
            <a:ext cx="765000" cy="231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1960"/>
            <a:ext cx="457200" cy="460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8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893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360" cy="1242720"/>
            <a:chOff x="5408640" y="2819520"/>
            <a:chExt cx="316836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692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0520" cy="655200"/>
            <a:chOff x="608040" y="5562720"/>
            <a:chExt cx="812052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32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268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13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2588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43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364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301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81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37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64360" cy="62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[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];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al[4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al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*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al+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*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+ 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&amp;val[2]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*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+ 8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al[5]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?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*(val+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5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al +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*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4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 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7480" y="2666880"/>
            <a:ext cx="7242120" cy="839880"/>
            <a:chOff x="987480" y="2666880"/>
            <a:chExt cx="724212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748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5960"/>
              <a:ext cx="1800" cy="231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0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0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0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0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0000"/>
              <a:ext cx="1800" cy="231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3352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600"/>
            <a:chOff x="1752480" y="1676520"/>
            <a:chExt cx="4851360" cy="2892600"/>
          </a:xfrm>
        </p:grpSpPr>
        <p:grpSp>
          <p:nvGrpSpPr>
            <p:cNvPr id="1084" name=""/>
            <p:cNvGrpSpPr/>
            <p:nvPr/>
          </p:nvGrpSpPr>
          <p:grpSpPr>
            <a:xfrm>
              <a:off x="1805040" y="1676520"/>
              <a:ext cx="4746600" cy="332280"/>
              <a:chOff x="180504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504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52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360" y="1676520"/>
                <a:ext cx="479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84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332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3160" y="1676520"/>
                <a:ext cx="479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64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212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240"/>
              <a:chOff x="1752480" y="1982880"/>
              <a:chExt cx="4851360" cy="258624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80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1840"/>
                <a:ext cx="2413080" cy="279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812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511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80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232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81280" y="289548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70480" y="289548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0002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7048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92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1120" y="3201840"/>
                <a:ext cx="2412720" cy="2797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95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94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60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112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112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9560" y="289548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8760" y="289548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88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87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6000" y="4255920"/>
                <a:ext cx="2136960" cy="18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08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812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64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720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9480" y="1676520"/>
            <a:ext cx="4919760" cy="2892600"/>
            <a:chOff x="1779480" y="1676520"/>
            <a:chExt cx="4919760" cy="2892600"/>
          </a:xfrm>
        </p:grpSpPr>
        <p:sp>
          <p:nvSpPr>
            <p:cNvPr id="1130" name=""/>
            <p:cNvSpPr/>
            <p:nvPr/>
          </p:nvSpPr>
          <p:spPr>
            <a:xfrm>
              <a:off x="361944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0640" y="3201840"/>
              <a:ext cx="2413080" cy="27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284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94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064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064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9480" y="28954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8240" y="28954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892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880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24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1840"/>
              <a:ext cx="2412720" cy="27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824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812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24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8120" y="28954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6520" y="28954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72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70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16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096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4160" y="4255920"/>
              <a:ext cx="213696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59640" y="426708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0640" y="38116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948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420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088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80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2920"/>
              <a:ext cx="2413080" cy="27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83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856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80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232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83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75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76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75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92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1120" y="3112920"/>
              <a:ext cx="2412720" cy="27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69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68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60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69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616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59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616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64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96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44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76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524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6000" y="4167360"/>
              <a:ext cx="213696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83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616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8720" y="2666880"/>
            <a:ext cx="6859080" cy="2363760"/>
            <a:chOff x="1368720" y="2666880"/>
            <a:chExt cx="685908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4560" y="2666880"/>
              <a:ext cx="6843240" cy="825480"/>
              <a:chOff x="1384560" y="2666880"/>
              <a:chExt cx="684324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456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2200" y="2743200"/>
                <a:ext cx="5025600" cy="749160"/>
                <a:chOff x="3202200" y="2743200"/>
                <a:chExt cx="502560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1240" y="2743200"/>
                  <a:ext cx="4572000" cy="228600"/>
                  <a:chOff x="33512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1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5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0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4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08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75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220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19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16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63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2956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07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396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51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836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7999560" y="297000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276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8720" y="3443400"/>
              <a:ext cx="6844680" cy="825480"/>
              <a:chOff x="1368720" y="3443400"/>
              <a:chExt cx="6844680" cy="82548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872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6360" y="3519360"/>
                <a:ext cx="5027040" cy="749520"/>
                <a:chOff x="3186360" y="3519360"/>
                <a:chExt cx="5027040" cy="74952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6840" y="3519360"/>
                  <a:ext cx="4570560" cy="228600"/>
                  <a:chOff x="3336840" y="3519360"/>
                  <a:chExt cx="4570560" cy="22860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6840" y="35193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49800" y="35193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4200" y="35193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78600" y="35193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3000" y="35193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63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7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51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95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9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47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8360" y="39006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8720" y="4205160"/>
              <a:ext cx="6844680" cy="825480"/>
              <a:chOff x="1368720" y="4205160"/>
              <a:chExt cx="68446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872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6360" y="4281480"/>
                <a:ext cx="5027040" cy="749160"/>
                <a:chOff x="318636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6840" y="4281480"/>
                  <a:ext cx="4570560" cy="228600"/>
                  <a:chOff x="3336840" y="4281480"/>
                  <a:chExt cx="457056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684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49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4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78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3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63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7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51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95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9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828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836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586728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Registe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%ed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Register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%ea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Desired digit at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Use memory referenc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8640"/>
            <a:ext cx="8307360" cy="34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it[3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6 + 4* 3 = 48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it[5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6 + 4* 5 = 56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9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it[-1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6 + 4*-1 = 32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mu[15]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16 + 4*15 = 76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??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4640" y="990720"/>
            <a:ext cx="6862320" cy="2361960"/>
            <a:chOff x="1214640" y="990720"/>
            <a:chExt cx="6862320" cy="2361960"/>
          </a:xfrm>
        </p:grpSpPr>
        <p:grpSp>
          <p:nvGrpSpPr>
            <p:cNvPr id="252" name=""/>
            <p:cNvGrpSpPr/>
            <p:nvPr/>
          </p:nvGrpSpPr>
          <p:grpSpPr>
            <a:xfrm>
              <a:off x="1230480" y="990720"/>
              <a:ext cx="6846480" cy="825480"/>
              <a:chOff x="1230480" y="990720"/>
              <a:chExt cx="6846480" cy="82548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048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920" y="1066680"/>
                <a:ext cx="5027040" cy="749520"/>
                <a:chOff x="3049920" y="1066680"/>
                <a:chExt cx="5027040" cy="74952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400" y="1066680"/>
                  <a:ext cx="4572000" cy="228600"/>
                  <a:chOff x="3200400" y="1066680"/>
                  <a:chExt cx="4572000" cy="22860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400" y="10666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4800" y="10666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200" y="10666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600" y="10666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000" y="10666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9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43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7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31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75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204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920" y="14479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4640" y="1766880"/>
              <a:ext cx="6846480" cy="824040"/>
              <a:chOff x="1214640" y="1766880"/>
              <a:chExt cx="6846480" cy="82404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464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4080" y="1843200"/>
                <a:ext cx="5027040" cy="747720"/>
                <a:chOff x="3034080" y="1843200"/>
                <a:chExt cx="5027040" cy="7477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560" y="1843200"/>
                  <a:ext cx="4572000" cy="228600"/>
                  <a:chOff x="3184560" y="1843200"/>
                  <a:chExt cx="4572000" cy="2286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560" y="18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8960" y="18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360" y="18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7760" y="18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160" y="18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40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84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8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72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16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68560"/>
                  <a:ext cx="1440" cy="2318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6080" y="222264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4640" y="2529000"/>
              <a:ext cx="6846480" cy="823680"/>
              <a:chOff x="1214640" y="2529000"/>
              <a:chExt cx="6846480" cy="82368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4640" y="25290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4080" y="2604960"/>
                <a:ext cx="5027040" cy="747720"/>
                <a:chOff x="3034080" y="2604960"/>
                <a:chExt cx="5027040" cy="74772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560" y="2604960"/>
                  <a:ext cx="4572000" cy="228600"/>
                  <a:chOff x="3184560" y="2604960"/>
                  <a:chExt cx="4572000" cy="22860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560" y="26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8960" y="26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360" y="26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7760" y="26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160" y="260496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  <a:tab algn="l" pos="105156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40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84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8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72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16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0320"/>
                  <a:ext cx="1440" cy="23148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6080" y="29844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48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48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48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Eliminate loop variable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808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Gothic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392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306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c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z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a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z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%ebx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ze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100000"/>
              </a:lnSpc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920"/>
                <a:tab algn="l" pos="750960"/>
                <a:tab algn="l" pos="1665360"/>
                <a:tab algn="l" pos="2579760"/>
                <a:tab algn="l" pos="3494160"/>
                <a:tab algn="l" pos="4408560"/>
                <a:tab algn="l" pos="5322960"/>
                <a:tab algn="l" pos="6237360"/>
                <a:tab algn="l" pos="7151760"/>
                <a:tab algn="l" pos="8066160"/>
                <a:tab algn="l" pos="8980560"/>
                <a:tab algn="l" pos="9894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Sanjeev Setia</cp:lastModifiedBy>
  <cp:lastPrinted>1998-08-31T18:34:23Z</cp:lastPrinted>
  <dcterms:modified xsi:type="dcterms:W3CDTF">2007-10-24T17:41:38Z</dcterms:modified>
  <cp:revision>90</cp:revision>
  <dc:subject/>
  <dc:title>Machine Level Programming IV</dc:title>
</cp:coreProperties>
</file>