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46840" cy="9396360"/>
          </a:xfrm>
          <a:custGeom>
            <a:avLst/>
            <a:gdLst>
              <a:gd name="textAreaLeft" fmla="*/ 360 w 6846840"/>
              <a:gd name="textAreaRight" fmla="*/ 6846480 w 6846840"/>
              <a:gd name="textAreaTop" fmla="*/ 360 h 9396360"/>
              <a:gd name="textAreaBottom" fmla="*/ 9396000 h 9396360"/>
            </a:gdLst>
            <a:ahLst/>
            <a:rect l="textAreaLeft" t="textAreaTop" r="textAreaRight" b="textAreaBottom"/>
            <a:pathLst>
              <a:path w="21600" h="29643">
                <a:moveTo>
                  <a:pt x="5" y="0"/>
                </a:moveTo>
                <a:arcTo wR="5" hR="5" stAng="16200000" swAng="-5400000"/>
                <a:lnTo>
                  <a:pt x="0" y="29638"/>
                </a:lnTo>
                <a:arcTo wR="5" hR="5" stAng="10800000" swAng="-5400000"/>
                <a:lnTo>
                  <a:pt x="21595" y="296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804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2640" y="895032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Page </a:t>
            </a:r>
            <a:fld id="{867A3938-4E3D-4D30-B687-963A293822FF}" type="slidenum"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082520" y="711000"/>
            <a:ext cx="4678560" cy="35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7760" y="640044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48C9EA4-CA4F-4198-8A55-E7DBF0F8EB1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2040" y="6391080"/>
            <a:ext cx="686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 36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5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720" y="65008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cture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89520" y="3054240"/>
            <a:ext cx="144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89520" y="4197240"/>
            <a:ext cx="144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89520" y="5340240"/>
            <a:ext cx="144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56360" y="5029200"/>
            <a:ext cx="99360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2760"/>
                <a:tab algn="l" pos="3540240"/>
                <a:tab algn="l" pos="3578400"/>
                <a:tab algn="l" pos="4473720"/>
                <a:tab algn="l" pos="5369040"/>
                <a:tab algn="l" pos="6264360"/>
                <a:tab algn="l" pos="7159680"/>
                <a:tab algn="l" pos="8055000"/>
                <a:tab algn="l" pos="8950320"/>
                <a:tab algn="l" pos="9845640"/>
                <a:tab algn="l" pos="107409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2760"/>
                <a:tab algn="l" pos="3540240"/>
                <a:tab algn="l" pos="3578400"/>
                <a:tab algn="l" pos="4473720"/>
                <a:tab algn="l" pos="5369040"/>
                <a:tab algn="l" pos="6264360"/>
                <a:tab algn="l" pos="7159680"/>
                <a:tab algn="l" pos="8055000"/>
                <a:tab algn="l" pos="8950320"/>
                <a:tab algn="l" pos="9845640"/>
                <a:tab algn="l" pos="107409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2760"/>
                <a:tab algn="l" pos="3540240"/>
                <a:tab algn="l" pos="3578400"/>
                <a:tab algn="l" pos="4473720"/>
                <a:tab algn="l" pos="5369040"/>
                <a:tab algn="l" pos="6264360"/>
                <a:tab algn="l" pos="7159680"/>
                <a:tab algn="l" pos="8055000"/>
                <a:tab algn="l" pos="8950320"/>
                <a:tab algn="l" pos="9845640"/>
                <a:tab algn="l" pos="1074096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2760"/>
                <a:tab algn="l" pos="3540240"/>
                <a:tab algn="l" pos="3578400"/>
                <a:tab algn="l" pos="4473720"/>
                <a:tab algn="l" pos="5369040"/>
                <a:tab algn="l" pos="6264360"/>
                <a:tab algn="l" pos="7159680"/>
                <a:tab algn="l" pos="8055000"/>
                <a:tab algn="l" pos="8950320"/>
                <a:tab algn="l" pos="9845640"/>
                <a:tab algn="l" pos="1074096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548560" cy="553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51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58720" indent="-2206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Gothic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Gothic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Arial"/>
              <a:buChar char="•"/>
              <a:tabLst>
                <a:tab algn="l" pos="558720"/>
                <a:tab algn="l" pos="1473120"/>
                <a:tab algn="l" pos="2387520"/>
                <a:tab algn="l" pos="3301920"/>
                <a:tab algn="l" pos="4216320"/>
                <a:tab algn="l" pos="5130720"/>
                <a:tab algn="l" pos="6045120"/>
                <a:tab algn="l" pos="6959520"/>
                <a:tab algn="l" pos="7873920"/>
                <a:tab algn="l" pos="8788320"/>
                <a:tab algn="l" pos="9702720"/>
                <a:tab algn="l" pos="106171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Gothic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Gothic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9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9440" indent="-1616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9440" indent="-1616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2960" indent="-218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[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107720" indent="-1634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8140680" cy="241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objdump -d 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 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isassemble s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/13b s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523880"/>
            <a:ext cx="1524240" cy="74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952880" y="3731760"/>
            <a:ext cx="1447920" cy="1298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827000" y="5027760"/>
            <a:ext cx="841320" cy="612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7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ov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our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400800" y="380880"/>
            <a:ext cx="2514600" cy="3581640"/>
            <a:chOff x="6400800" y="380880"/>
            <a:chExt cx="2514600" cy="3581640"/>
          </a:xfrm>
        </p:grpSpPr>
        <p:sp>
          <p:nvSpPr>
            <p:cNvPr id="170" name=""/>
            <p:cNvSpPr/>
            <p:nvPr/>
          </p:nvSpPr>
          <p:spPr>
            <a:xfrm>
              <a:off x="6400800" y="3808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8380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2952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17524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22096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2666880"/>
              <a:ext cx="25146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00800" y="3124080"/>
              <a:ext cx="25146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00800" y="3581280"/>
              <a:ext cx="25146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040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164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344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164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76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2060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276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060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276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5116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2096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50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57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132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1168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168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124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224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224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82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856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856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ovl (%ecx),%ea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ovl 8(%ebp),%ed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411336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1066680"/>
            <a:ext cx="33526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352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208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34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640840" y="914400"/>
            <a:ext cx="3303360" cy="3352680"/>
            <a:chOff x="5640840" y="914400"/>
            <a:chExt cx="3303360" cy="3352680"/>
          </a:xfrm>
        </p:grpSpPr>
        <p:sp>
          <p:nvSpPr>
            <p:cNvPr id="222" name=""/>
            <p:cNvSpPr/>
            <p:nvPr/>
          </p:nvSpPr>
          <p:spPr>
            <a:xfrm>
              <a:off x="6553080" y="23623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3080" y="27432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31240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53080" y="35053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617960" y="365760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14840" y="34862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21360" y="35053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136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21360" y="2743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1360" y="23623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40840" y="19051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914400"/>
              <a:ext cx="1067040" cy="1447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3080" y="38862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21360" y="3886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270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279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321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330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372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381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423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432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474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483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525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534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15000" y="3733920"/>
            <a:ext cx="457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95432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2136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2136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136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2136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084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2136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192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33520" y="1523880"/>
            <a:ext cx="685800" cy="3581640"/>
            <a:chOff x="533520" y="1523880"/>
            <a:chExt cx="685800" cy="3581640"/>
          </a:xfrm>
        </p:grpSpPr>
        <p:sp>
          <p:nvSpPr>
            <p:cNvPr id="576" name=""/>
            <p:cNvSpPr/>
            <p:nvPr/>
          </p:nvSpPr>
          <p:spPr>
            <a:xfrm>
              <a:off x="533520" y="1523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19810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24382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28954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3520" y="33526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3520" y="3809880"/>
              <a:ext cx="6858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3520" y="42670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520" y="4724280"/>
              <a:ext cx="68580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219320" y="1523880"/>
            <a:ext cx="1066680" cy="3581640"/>
            <a:chOff x="1219320" y="1523880"/>
            <a:chExt cx="1066680" cy="3581640"/>
          </a:xfrm>
        </p:grpSpPr>
        <p:sp>
          <p:nvSpPr>
            <p:cNvPr id="585" name=""/>
            <p:cNvSpPr/>
            <p:nvPr/>
          </p:nvSpPr>
          <p:spPr>
            <a:xfrm>
              <a:off x="1219320" y="1523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19810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24382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28954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219320" y="33526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19320" y="3809880"/>
              <a:ext cx="106668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19320" y="42670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19320" y="4724280"/>
              <a:ext cx="1066680" cy="38124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119320"/>
                <a:tab algn="l" pos="36050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90000" rIns="90000" tIns="277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1368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277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1368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2772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13680">
                      <a:solidFill>
                        <a:srgbClr val="660000"/>
                      </a:solidFill>
                    </a:lnR>
                    <a:lnT w="1368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1368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1368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1368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5760">
                      <a:solidFill>
                        <a:srgbClr val="66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1368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ct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576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13680">
                      <a:solidFill>
                        <a:srgbClr val="660000"/>
                      </a:solidFill>
                    </a:lnB>
                    <a:noFill/>
                  </a:tcPr>
                </a:tc>
                <a:tc>
                  <a:txBody>
                    <a:bodyPr lIns="90000" rIns="90000" tIns="37800" bIns="46800" anchor="ctr">
                      <a:noAutofit/>
                    </a:bodyPr>
                    <a:p>
                      <a:pPr algn="r">
                        <a:lnSpc>
                          <a:spcPct val="89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00"/>
                      </a:solidFill>
                    </a:lnL>
                    <a:lnR w="13680">
                      <a:solidFill>
                        <a:srgbClr val="660000"/>
                      </a:solidFill>
                    </a:lnR>
                    <a:lnT w="5760">
                      <a:solidFill>
                        <a:srgbClr val="660000"/>
                      </a:solidFill>
                    </a:lnT>
                    <a:lnB w="13680">
                      <a:solidFill>
                        <a:srgbClr val="66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dd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+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ub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mul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*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al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&lt;&lt;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calle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hl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ar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&gt;&gt;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hr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&gt;&gt;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or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^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ndl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&amp;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orl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|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c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+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ec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-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neg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-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60520"/>
                <a:tab algn="l" pos="2855880"/>
                <a:tab algn="l" pos="55990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not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= ~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75760" y="87480"/>
            <a:ext cx="8867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143000"/>
            <a:ext cx="41148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0352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00208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92468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12240" y="1066680"/>
            <a:ext cx="3354120" cy="2971800"/>
            <a:chOff x="5412240" y="1066680"/>
            <a:chExt cx="3354120" cy="2971800"/>
          </a:xfrm>
        </p:grpSpPr>
        <p:sp>
          <p:nvSpPr>
            <p:cNvPr id="620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89360" y="38098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8624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9276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9276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9276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9276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41224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734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276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666880" y="2513160"/>
            <a:ext cx="1752840" cy="792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895480" y="3122640"/>
            <a:ext cx="1752840" cy="458640"/>
            <a:chOff x="2895480" y="3122640"/>
            <a:chExt cx="1752840" cy="458640"/>
          </a:xfrm>
        </p:grpSpPr>
        <p:sp>
          <p:nvSpPr>
            <p:cNvPr id="640" name=""/>
            <p:cNvSpPr/>
            <p:nvPr/>
          </p:nvSpPr>
          <p:spPr>
            <a:xfrm flipV="1">
              <a:off x="2895480" y="3122640"/>
              <a:ext cx="1676520" cy="2318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4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0352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0208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7876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14784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14784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14784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147840"/>
                <a:tab algn="l" pos="4976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172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55452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5488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84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397160" y="2673360"/>
            <a:ext cx="1912680" cy="368280"/>
            <a:chOff x="1397160" y="2673360"/>
            <a:chExt cx="1912680" cy="368280"/>
          </a:xfrm>
        </p:grpSpPr>
        <p:sp>
          <p:nvSpPr>
            <p:cNvPr id="665" name=""/>
            <p:cNvSpPr/>
            <p:nvPr/>
          </p:nvSpPr>
          <p:spPr>
            <a:xfrm>
              <a:off x="139716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39840" y="2895480"/>
              <a:ext cx="44460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218268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460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55632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3" name=""/>
            <p:cNvSpPr/>
            <p:nvPr/>
          </p:nvSpPr>
          <p:spPr>
            <a:xfrm>
              <a:off x="609480" y="5029200"/>
              <a:ext cx="746280" cy="11365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20880" y="5029200"/>
              <a:ext cx="76212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370160" y="5251320"/>
              <a:ext cx="298440" cy="1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40200" y="5029200"/>
              <a:ext cx="65232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8264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77880" y="5479920"/>
              <a:ext cx="609480" cy="533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20880" y="5479920"/>
              <a:ext cx="76212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6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est, 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ov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rc, 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100h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$0x10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ub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ub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[eax*4+100h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$0x100(,%eax,4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5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Xe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re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6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itially referred to as x86-64, now AMD64 and Intel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59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2347920"/>
                <a:tab algn="l" pos="2684520"/>
                <a:tab algn="l" pos="3579840"/>
                <a:tab algn="l" pos="4475160"/>
                <a:tab algn="l" pos="537048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160" y="3760560"/>
            <a:ext cx="4357800" cy="28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752480"/>
            <a:ext cx="1752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286000"/>
            <a:ext cx="1752840" cy="1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819520"/>
            <a:ext cx="1752840" cy="1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4876920"/>
            <a:ext cx="407664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462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MS Gothic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4440" indent="-2365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S Gothic"/>
              </a:rPr>
              <a:t>Byte addressable arr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4440" indent="-2365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S Gothic"/>
              </a:rPr>
              <a:t>Code, user data, (some) OS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4440" indent="-2365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S Gothic"/>
              </a:rPr>
              <a:t>Includes stack used to support proced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Office 2004 Test Drive User</cp:lastModifiedBy>
  <cp:lastPrinted>2007-09-29T03:23:42Z</cp:lastPrinted>
  <dcterms:modified xsi:type="dcterms:W3CDTF">2007-09-29T03:23:57Z</dcterms:modified>
  <cp:revision>69</cp:revision>
  <dc:subject/>
  <dc:title>Machine Level Programming I</dc:title>
</cp:coreProperties>
</file>