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47200" cy="939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846840" cy="9396360"/>
          </a:xfrm>
          <a:custGeom>
            <a:avLst/>
            <a:gdLst>
              <a:gd name="textAreaLeft" fmla="*/ 360 w 6846840"/>
              <a:gd name="textAreaRight" fmla="*/ 6846480 w 6846840"/>
              <a:gd name="textAreaTop" fmla="*/ 360 h 9396360"/>
              <a:gd name="textAreaBottom" fmla="*/ 9396000 h 9396360"/>
            </a:gdLst>
            <a:ahLst/>
            <a:rect l="textAreaLeft" t="textAreaTop" r="textAreaRight" b="textAreaBottom"/>
            <a:pathLst>
              <a:path w="21600" h="29643">
                <a:moveTo>
                  <a:pt x="5" y="0"/>
                </a:moveTo>
                <a:arcTo wR="5" hR="5" stAng="16200000" swAng="-5400000"/>
                <a:lnTo>
                  <a:pt x="0" y="29638"/>
                </a:lnTo>
                <a:arcTo wR="5" hR="5" stAng="10800000" swAng="-5400000"/>
                <a:lnTo>
                  <a:pt x="21595" y="296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804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62640" y="895032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Page </a:t>
            </a:r>
            <a:fld id="{DDC77D40-B444-46B3-8815-7D53B02AA48B}" type="slidenum">
              <a:rPr b="0" lang="en-US" sz="1200" spc="-1" strike="noStrike">
                <a:solidFill>
                  <a:srgbClr val="000066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082520" y="711000"/>
            <a:ext cx="4678560" cy="3508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82520" y="711360"/>
            <a:ext cx="4680000" cy="35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24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760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24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760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320"/>
            <a:ext cx="871560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24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760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24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760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320"/>
            <a:ext cx="871560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7760" y="640044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8CC8DC26-7708-4BBF-91EC-8542E5093D89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75280" y="6391080"/>
            <a:ext cx="686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 36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saving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pointers to 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7720" y="6500880"/>
            <a:ext cx="1568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cture1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21040" y="762120"/>
            <a:ext cx="1736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CS 367</a:t>
            </a:r>
            <a:endParaRPr b="0" lang="en-US" sz="3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611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ll Chai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277344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1447920"/>
            <a:ext cx="152388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0" y="243828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962520"/>
            <a:ext cx="152424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97760" y="1676520"/>
            <a:ext cx="1498320" cy="35812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11960" y="19051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11960" y="25909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326556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11960" y="396252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11960" y="472428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16880" y="2209680"/>
            <a:ext cx="144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16880" y="2895480"/>
            <a:ext cx="144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16880" y="3581280"/>
            <a:ext cx="144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16880" y="43434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114300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51814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43040"/>
                <a:tab algn="l" pos="1657440"/>
                <a:tab algn="l" pos="2571840"/>
                <a:tab algn="l" pos="3486240"/>
                <a:tab algn="l" pos="4400640"/>
                <a:tab algn="l" pos="5315040"/>
                <a:tab algn="l" pos="6229440"/>
                <a:tab algn="l" pos="7143840"/>
                <a:tab algn="l" pos="8058240"/>
                <a:tab algn="l" pos="8972640"/>
                <a:tab algn="l" pos="9887040"/>
                <a:tab algn="l" pos="108014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Procedur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MS Gothic"/>
              </a:rPr>
              <a:t>amI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recursiv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78680" y="3265560"/>
            <a:ext cx="60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2895480"/>
            <a:ext cx="53640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932360" y="4548240"/>
            <a:ext cx="1441440" cy="911880"/>
            <a:chOff x="4932360" y="4548240"/>
            <a:chExt cx="1441440" cy="911880"/>
          </a:xfrm>
        </p:grpSpPr>
        <p:sp>
          <p:nvSpPr>
            <p:cNvPr id="262" name=""/>
            <p:cNvSpPr/>
            <p:nvPr/>
          </p:nvSpPr>
          <p:spPr>
            <a:xfrm>
              <a:off x="5865840" y="4829040"/>
              <a:ext cx="50796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2360" y="454824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343400" y="10429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1320" y="1576440"/>
            <a:ext cx="129204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43560" y="4038480"/>
            <a:ext cx="1292400" cy="91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o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886280" y="3505320"/>
            <a:ext cx="1444680" cy="911880"/>
            <a:chOff x="4886280" y="3505320"/>
            <a:chExt cx="1444680" cy="911880"/>
          </a:xfrm>
        </p:grpSpPr>
        <p:sp>
          <p:nvSpPr>
            <p:cNvPr id="268" name=""/>
            <p:cNvSpPr/>
            <p:nvPr/>
          </p:nvSpPr>
          <p:spPr>
            <a:xfrm>
              <a:off x="5823000" y="416736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86280" y="35053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H="1" flipV="1">
            <a:off x="7449840" y="4951080"/>
            <a:ext cx="638280" cy="384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61200" y="5029200"/>
            <a:ext cx="830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50292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Fra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504360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mporary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na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 allocated when enter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t-up”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allocated when retu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ish”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pointe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stack t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ame poin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start of current fr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42120" y="210996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5297760" y="1728720"/>
            <a:ext cx="1441080" cy="911880"/>
            <a:chOff x="5297760" y="1728720"/>
            <a:chExt cx="1441080" cy="911880"/>
          </a:xfrm>
        </p:grpSpPr>
        <p:sp>
          <p:nvSpPr>
            <p:cNvPr id="276" name=""/>
            <p:cNvSpPr/>
            <p:nvPr/>
          </p:nvSpPr>
          <p:spPr>
            <a:xfrm>
              <a:off x="6230880" y="200988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97760" y="17287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251680" y="685800"/>
            <a:ext cx="1444320" cy="911880"/>
            <a:chOff x="5251680" y="685800"/>
            <a:chExt cx="1444320" cy="911880"/>
          </a:xfrm>
        </p:grpSpPr>
        <p:sp>
          <p:nvSpPr>
            <p:cNvPr id="281" name=""/>
            <p:cNvSpPr/>
            <p:nvPr/>
          </p:nvSpPr>
          <p:spPr>
            <a:xfrm>
              <a:off x="6188040" y="134784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51680" y="6858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2209680"/>
            <a:ext cx="685800" cy="1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5297760" y="2643120"/>
            <a:ext cx="1441080" cy="911880"/>
            <a:chOff x="5297760" y="2643120"/>
            <a:chExt cx="1441080" cy="911880"/>
          </a:xfrm>
        </p:grpSpPr>
        <p:sp>
          <p:nvSpPr>
            <p:cNvPr id="289" name=""/>
            <p:cNvSpPr/>
            <p:nvPr/>
          </p:nvSpPr>
          <p:spPr>
            <a:xfrm>
              <a:off x="6230880" y="292428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9776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251680" y="1600200"/>
            <a:ext cx="1444320" cy="911880"/>
            <a:chOff x="5251680" y="1600200"/>
            <a:chExt cx="1444320" cy="911880"/>
          </a:xfrm>
        </p:grpSpPr>
        <p:sp>
          <p:nvSpPr>
            <p:cNvPr id="295" name=""/>
            <p:cNvSpPr/>
            <p:nvPr/>
          </p:nvSpPr>
          <p:spPr>
            <a:xfrm>
              <a:off x="6188040" y="226224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5168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97360" y="22860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7672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2209680"/>
            <a:ext cx="685800" cy="1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5297760" y="3557520"/>
            <a:ext cx="1441080" cy="911880"/>
            <a:chOff x="5297760" y="3557520"/>
            <a:chExt cx="1441080" cy="911880"/>
          </a:xfrm>
        </p:grpSpPr>
        <p:sp>
          <p:nvSpPr>
            <p:cNvPr id="305" name=""/>
            <p:cNvSpPr/>
            <p:nvPr/>
          </p:nvSpPr>
          <p:spPr>
            <a:xfrm>
              <a:off x="6230880" y="383868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9776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251680" y="2514600"/>
            <a:ext cx="1444320" cy="911880"/>
            <a:chOff x="5251680" y="2514600"/>
            <a:chExt cx="1444320" cy="911880"/>
          </a:xfrm>
        </p:grpSpPr>
        <p:sp>
          <p:nvSpPr>
            <p:cNvPr id="312" name=""/>
            <p:cNvSpPr/>
            <p:nvPr/>
          </p:nvSpPr>
          <p:spPr>
            <a:xfrm>
              <a:off x="6188040" y="317664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5168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97360" y="22860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97360" y="29718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280" y="2209680"/>
            <a:ext cx="685800" cy="1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5297760" y="4497480"/>
            <a:ext cx="1441080" cy="911880"/>
            <a:chOff x="5297760" y="4497480"/>
            <a:chExt cx="1441080" cy="911880"/>
          </a:xfrm>
        </p:grpSpPr>
        <p:sp>
          <p:nvSpPr>
            <p:cNvPr id="324" name=""/>
            <p:cNvSpPr/>
            <p:nvPr/>
          </p:nvSpPr>
          <p:spPr>
            <a:xfrm>
              <a:off x="6230880" y="4778280"/>
              <a:ext cx="50796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97760" y="44974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251680" y="3454560"/>
            <a:ext cx="1444320" cy="911880"/>
            <a:chOff x="5251680" y="3454560"/>
            <a:chExt cx="1444320" cy="911880"/>
          </a:xfrm>
        </p:grpSpPr>
        <p:sp>
          <p:nvSpPr>
            <p:cNvPr id="331" name=""/>
            <p:cNvSpPr/>
            <p:nvPr/>
          </p:nvSpPr>
          <p:spPr>
            <a:xfrm>
              <a:off x="6188040" y="4116240"/>
              <a:ext cx="50796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51680" y="34545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97360" y="22860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97360" y="29718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7672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2209680"/>
            <a:ext cx="685800" cy="1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97360" y="3686040"/>
            <a:ext cx="144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5297760" y="5411880"/>
            <a:ext cx="1441080" cy="911880"/>
            <a:chOff x="5297760" y="5411880"/>
            <a:chExt cx="1441080" cy="911880"/>
          </a:xfrm>
        </p:grpSpPr>
        <p:sp>
          <p:nvSpPr>
            <p:cNvPr id="346" name=""/>
            <p:cNvSpPr/>
            <p:nvPr/>
          </p:nvSpPr>
          <p:spPr>
            <a:xfrm>
              <a:off x="6230880" y="5692680"/>
              <a:ext cx="50796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97760" y="54118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251680" y="4368960"/>
            <a:ext cx="1444320" cy="911880"/>
            <a:chOff x="5251680" y="4368960"/>
            <a:chExt cx="1444320" cy="911880"/>
          </a:xfrm>
        </p:grpSpPr>
        <p:sp>
          <p:nvSpPr>
            <p:cNvPr id="353" name=""/>
            <p:cNvSpPr/>
            <p:nvPr/>
          </p:nvSpPr>
          <p:spPr>
            <a:xfrm>
              <a:off x="6188040" y="5030640"/>
              <a:ext cx="50796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51680" y="43689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97360" y="22860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97360" y="29718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2209680"/>
            <a:ext cx="685800" cy="1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97360" y="3686040"/>
            <a:ext cx="144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97360" y="4371840"/>
            <a:ext cx="144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48769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5297760" y="4497480"/>
            <a:ext cx="1441080" cy="911880"/>
            <a:chOff x="5297760" y="4497480"/>
            <a:chExt cx="1441080" cy="911880"/>
          </a:xfrm>
        </p:grpSpPr>
        <p:sp>
          <p:nvSpPr>
            <p:cNvPr id="371" name=""/>
            <p:cNvSpPr/>
            <p:nvPr/>
          </p:nvSpPr>
          <p:spPr>
            <a:xfrm>
              <a:off x="6230880" y="4778280"/>
              <a:ext cx="50796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97760" y="44974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251680" y="3454560"/>
            <a:ext cx="1444320" cy="911880"/>
            <a:chOff x="5251680" y="3454560"/>
            <a:chExt cx="1444320" cy="911880"/>
          </a:xfrm>
        </p:grpSpPr>
        <p:sp>
          <p:nvSpPr>
            <p:cNvPr id="378" name=""/>
            <p:cNvSpPr/>
            <p:nvPr/>
          </p:nvSpPr>
          <p:spPr>
            <a:xfrm>
              <a:off x="6188040" y="4116240"/>
              <a:ext cx="50796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1680" y="345456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7360" y="22860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97360" y="29718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2280" y="3124080"/>
            <a:ext cx="685800" cy="18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962520"/>
            <a:ext cx="129204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97360" y="3686040"/>
            <a:ext cx="1440" cy="432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97360" y="4371840"/>
            <a:ext cx="144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5297760" y="3557520"/>
            <a:ext cx="1441080" cy="911880"/>
            <a:chOff x="5297760" y="3557520"/>
            <a:chExt cx="1441080" cy="911880"/>
          </a:xfrm>
        </p:grpSpPr>
        <p:sp>
          <p:nvSpPr>
            <p:cNvPr id="395" name=""/>
            <p:cNvSpPr/>
            <p:nvPr/>
          </p:nvSpPr>
          <p:spPr>
            <a:xfrm>
              <a:off x="6230880" y="383868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9776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251680" y="2514600"/>
            <a:ext cx="1444320" cy="911880"/>
            <a:chOff x="5251680" y="2514600"/>
            <a:chExt cx="1444320" cy="911880"/>
          </a:xfrm>
        </p:grpSpPr>
        <p:sp>
          <p:nvSpPr>
            <p:cNvPr id="402" name=""/>
            <p:cNvSpPr/>
            <p:nvPr/>
          </p:nvSpPr>
          <p:spPr>
            <a:xfrm>
              <a:off x="6188040" y="317664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5168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97360" y="22860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97360" y="29718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498680"/>
            <a:ext cx="1600200" cy="2283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280" y="3048120"/>
            <a:ext cx="68580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97360" y="3686040"/>
            <a:ext cx="144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97360" y="4371840"/>
            <a:ext cx="144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5297760" y="2643120"/>
            <a:ext cx="1441080" cy="911880"/>
            <a:chOff x="5297760" y="2643120"/>
            <a:chExt cx="1441080" cy="911880"/>
          </a:xfrm>
        </p:grpSpPr>
        <p:sp>
          <p:nvSpPr>
            <p:cNvPr id="418" name=""/>
            <p:cNvSpPr/>
            <p:nvPr/>
          </p:nvSpPr>
          <p:spPr>
            <a:xfrm>
              <a:off x="6230880" y="292428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9776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251680" y="1600200"/>
            <a:ext cx="1444320" cy="911880"/>
            <a:chOff x="5251680" y="1600200"/>
            <a:chExt cx="1444320" cy="911880"/>
          </a:xfrm>
        </p:grpSpPr>
        <p:sp>
          <p:nvSpPr>
            <p:cNvPr id="424" name=""/>
            <p:cNvSpPr/>
            <p:nvPr/>
          </p:nvSpPr>
          <p:spPr>
            <a:xfrm>
              <a:off x="6188040" y="226224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5168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97360" y="22860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2280" y="2743200"/>
            <a:ext cx="68580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97360" y="2971800"/>
            <a:ext cx="144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97360" y="3686040"/>
            <a:ext cx="144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97360" y="4371840"/>
            <a:ext cx="144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160" y="990360"/>
            <a:ext cx="44607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on of memory managed with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rows toward lower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lowest  stack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of top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191120" y="4267080"/>
            <a:ext cx="1520640" cy="911880"/>
            <a:chOff x="4191120" y="4267080"/>
            <a:chExt cx="1520640" cy="911880"/>
          </a:xfrm>
        </p:grpSpPr>
        <p:sp>
          <p:nvSpPr>
            <p:cNvPr id="89" name=""/>
            <p:cNvSpPr/>
            <p:nvPr/>
          </p:nvSpPr>
          <p:spPr>
            <a:xfrm>
              <a:off x="5203800" y="500544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426708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3809880"/>
            <a:ext cx="144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231320" y="1598400"/>
            <a:ext cx="1347480" cy="1298520"/>
            <a:chOff x="7231320" y="1598400"/>
            <a:chExt cx="1347480" cy="1298520"/>
          </a:xfrm>
        </p:grpSpPr>
        <p:sp>
          <p:nvSpPr>
            <p:cNvPr id="95" name=""/>
            <p:cNvSpPr/>
            <p:nvPr/>
          </p:nvSpPr>
          <p:spPr>
            <a:xfrm flipV="1">
              <a:off x="7915320" y="1598400"/>
              <a:ext cx="1440" cy="1298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132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 flipH="1" flipV="1">
            <a:off x="6541560" y="5179680"/>
            <a:ext cx="638280" cy="384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23480" y="563868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4876920"/>
            <a:ext cx="129528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779880" y="1295280"/>
            <a:ext cx="46044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5294520" y="3557520"/>
            <a:ext cx="1444320" cy="911880"/>
            <a:chOff x="5294520" y="3557520"/>
            <a:chExt cx="1444320" cy="911880"/>
          </a:xfrm>
        </p:grpSpPr>
        <p:sp>
          <p:nvSpPr>
            <p:cNvPr id="440" name=""/>
            <p:cNvSpPr/>
            <p:nvPr/>
          </p:nvSpPr>
          <p:spPr>
            <a:xfrm>
              <a:off x="6230880" y="383868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94520" y="3557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08600" y="3048120"/>
            <a:ext cx="1292400" cy="911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251680" y="2514600"/>
            <a:ext cx="1444320" cy="911880"/>
            <a:chOff x="5251680" y="2514600"/>
            <a:chExt cx="1444320" cy="911880"/>
          </a:xfrm>
        </p:grpSpPr>
        <p:sp>
          <p:nvSpPr>
            <p:cNvPr id="447" name=""/>
            <p:cNvSpPr/>
            <p:nvPr/>
          </p:nvSpPr>
          <p:spPr>
            <a:xfrm>
              <a:off x="6188040" y="317664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51680" y="25146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97360" y="22860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" y="1498680"/>
            <a:ext cx="1600200" cy="200916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2280" y="2362320"/>
            <a:ext cx="68580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92440" y="40384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92440" y="480060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97360" y="2971800"/>
            <a:ext cx="144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97360" y="3657600"/>
            <a:ext cx="144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97360" y="4419720"/>
            <a:ext cx="144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5297760" y="2643120"/>
            <a:ext cx="1441080" cy="911880"/>
            <a:chOff x="5297760" y="2643120"/>
            <a:chExt cx="1441080" cy="911880"/>
          </a:xfrm>
        </p:grpSpPr>
        <p:sp>
          <p:nvSpPr>
            <p:cNvPr id="465" name=""/>
            <p:cNvSpPr/>
            <p:nvPr/>
          </p:nvSpPr>
          <p:spPr>
            <a:xfrm>
              <a:off x="6230880" y="292428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97760" y="26431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08600" y="2133720"/>
            <a:ext cx="1292400" cy="911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251680" y="1600200"/>
            <a:ext cx="1444320" cy="911880"/>
            <a:chOff x="5251680" y="1600200"/>
            <a:chExt cx="1444320" cy="911880"/>
          </a:xfrm>
        </p:grpSpPr>
        <p:sp>
          <p:nvSpPr>
            <p:cNvPr id="471" name=""/>
            <p:cNvSpPr/>
            <p:nvPr/>
          </p:nvSpPr>
          <p:spPr>
            <a:xfrm>
              <a:off x="6188040" y="226224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51680" y="16002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97360" y="2286000"/>
            <a:ext cx="1440" cy="4316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1447920"/>
            <a:ext cx="1600200" cy="2283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mI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3276720"/>
            <a:ext cx="68580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97360" y="2971800"/>
            <a:ext cx="144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97360" y="3686040"/>
            <a:ext cx="144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97360" y="4371840"/>
            <a:ext cx="144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457200" y="1523880"/>
            <a:ext cx="1600200" cy="2283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(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294520" y="1728720"/>
            <a:ext cx="1444320" cy="911880"/>
            <a:chOff x="5294520" y="1728720"/>
            <a:chExt cx="1444320" cy="911880"/>
          </a:xfrm>
        </p:grpSpPr>
        <p:sp>
          <p:nvSpPr>
            <p:cNvPr id="490" name=""/>
            <p:cNvSpPr/>
            <p:nvPr/>
          </p:nvSpPr>
          <p:spPr>
            <a:xfrm>
              <a:off x="6230880" y="200988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94520" y="17287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6708600" y="1219320"/>
            <a:ext cx="1292400" cy="911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8600" y="304920"/>
            <a:ext cx="1292400" cy="9118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251680" y="685800"/>
            <a:ext cx="1444320" cy="911880"/>
            <a:chOff x="5251680" y="685800"/>
            <a:chExt cx="1444320" cy="911880"/>
          </a:xfrm>
        </p:grpSpPr>
        <p:sp>
          <p:nvSpPr>
            <p:cNvPr id="495" name=""/>
            <p:cNvSpPr/>
            <p:nvPr/>
          </p:nvSpPr>
          <p:spPr>
            <a:xfrm>
              <a:off x="6188040" y="134784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1680" y="68580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592440" y="19810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92440" y="266688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97360" y="2286000"/>
            <a:ext cx="144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1219320"/>
            <a:ext cx="167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l Ch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280" y="3276720"/>
            <a:ext cx="68580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8128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97360" y="2971800"/>
            <a:ext cx="144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81280" y="40561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97360" y="3686040"/>
            <a:ext cx="144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7419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97360" y="4371840"/>
            <a:ext cx="1440" cy="43200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59160" y="3341520"/>
            <a:ext cx="60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Courier New"/>
              </a:rPr>
              <a:t>am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038480" y="2971800"/>
            <a:ext cx="536760" cy="4316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7438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/Linux Stack Fra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96040" cy="50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urrent Stack Frame (“Top” to Bottom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ameters for function about to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 build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can’t keep i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register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ld frame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er Stack Fra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shed b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al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for this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6019920"/>
            <a:ext cx="88920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78520" y="56167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60960" y="3422520"/>
            <a:ext cx="96516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043600" y="2943360"/>
            <a:ext cx="171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ame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37280" y="3568680"/>
            <a:ext cx="1371600" cy="1816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37280" y="5410080"/>
            <a:ext cx="137160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37280" y="1143000"/>
            <a:ext cx="1371600" cy="137160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24680" y="3263760"/>
            <a:ext cx="138420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824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8831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si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41148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920" y="13716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p1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p2 = 9112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all_swap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(&amp;zip1, &amp;zip2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48320" y="1447920"/>
            <a:ext cx="42670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_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$zip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$zip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lobal V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wa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46483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50292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19920" y="54100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7100640" y="55818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7520" y="5410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468920" y="350532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19920" y="32004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44880" y="969840"/>
            <a:ext cx="36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_swa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8831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si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48320" y="1066680"/>
            <a:ext cx="33526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00352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00208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0100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54385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863640"/>
            <a:ext cx="204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995120" y="42102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59200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724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1979280" y="198108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7616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019920" y="1822320"/>
            <a:ext cx="2378160" cy="2990880"/>
            <a:chOff x="6019920" y="1822320"/>
            <a:chExt cx="2378160" cy="2990880"/>
          </a:xfrm>
        </p:grpSpPr>
        <p:sp>
          <p:nvSpPr>
            <p:cNvPr id="559" name=""/>
            <p:cNvSpPr/>
            <p:nvPr/>
          </p:nvSpPr>
          <p:spPr>
            <a:xfrm>
              <a:off x="6019920" y="3276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019920" y="36576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9920" y="40384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19920" y="441972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071840" y="1994040"/>
              <a:ext cx="4604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668720" y="1822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19920" y="1828800"/>
              <a:ext cx="1066680" cy="14479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34320" y="1981080"/>
              <a:ext cx="1003320" cy="251460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062480" y="4616280"/>
              <a:ext cx="4604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9360" y="44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54385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7085160" y="4572000"/>
            <a:ext cx="46008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8168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21000" y="8380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995120" y="42102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9200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724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979280" y="198108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57616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7087680" y="4690800"/>
            <a:ext cx="473400" cy="282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9752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53625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5105520"/>
            <a:ext cx="502920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7085160" y="4572000"/>
            <a:ext cx="46008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8168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21000" y="91440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1995120" y="42102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200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724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1979280" y="198108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7616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7100640" y="497196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69752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1981080" y="3657600"/>
            <a:ext cx="4038840" cy="380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81080" y="4038480"/>
            <a:ext cx="4038840" cy="38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81080" y="3276720"/>
            <a:ext cx="40388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1070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ffect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Setu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1992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1992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1992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19920" y="4419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085160" y="4572000"/>
            <a:ext cx="46008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81680" y="4400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487840" y="441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8784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8784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48784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4400" y="2590920"/>
            <a:ext cx="20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relative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392600" y="1295280"/>
            <a:ext cx="15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1992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657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14400" y="4038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95120" y="42102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200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87240" y="99072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t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14400" y="18288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979280" y="198108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76160" y="180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19920" y="4800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7100640" y="497196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9752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19810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480" y="5335560"/>
            <a:ext cx="4876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 # get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  # get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541188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260320" y="5562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 Push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446076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sh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ush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operand a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operand at 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03800" y="5005440"/>
            <a:ext cx="507960" cy="14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3809880"/>
            <a:ext cx="144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231320" y="1598400"/>
            <a:ext cx="1347480" cy="1298520"/>
            <a:chOff x="7231320" y="1598400"/>
            <a:chExt cx="1347480" cy="1298520"/>
          </a:xfrm>
        </p:grpSpPr>
        <p:sp>
          <p:nvSpPr>
            <p:cNvPr id="109" name=""/>
            <p:cNvSpPr/>
            <p:nvPr/>
          </p:nvSpPr>
          <p:spPr>
            <a:xfrm flipV="1">
              <a:off x="7915320" y="1598400"/>
              <a:ext cx="1440" cy="1298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132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H="1" flipV="1">
            <a:off x="6541560" y="5501880"/>
            <a:ext cx="638280" cy="384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23480" y="596124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4876920"/>
            <a:ext cx="129528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779880" y="1295280"/>
            <a:ext cx="46044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5181480"/>
            <a:ext cx="1292400" cy="304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227480" y="4573440"/>
            <a:ext cx="1484280" cy="911880"/>
            <a:chOff x="4227480" y="4573440"/>
            <a:chExt cx="1484280" cy="911880"/>
          </a:xfrm>
        </p:grpSpPr>
        <p:sp>
          <p:nvSpPr>
            <p:cNvPr id="118" name=""/>
            <p:cNvSpPr/>
            <p:nvPr/>
          </p:nvSpPr>
          <p:spPr>
            <a:xfrm>
              <a:off x="5203800" y="5311800"/>
              <a:ext cx="507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7480" y="457344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344920" y="5021280"/>
            <a:ext cx="272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5029200"/>
            <a:ext cx="1440" cy="30492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55530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3350880" y="380988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94776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5428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5428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428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75428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128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366720" y="42102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360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75428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&amp; restored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880240" y="255276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0240" y="293364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880240" y="331488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80240" y="369576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945480" y="3848040"/>
            <a:ext cx="4600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542000" y="3676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48160" y="3695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48160" y="3314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348160" y="29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48160" y="2552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67640" y="20955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80240" y="110484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80240" y="407664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6961320" y="4248000"/>
            <a:ext cx="4600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557840" y="40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4640" y="125748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48160" y="4076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55530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860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86000" y="3657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3350880" y="380988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4776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75428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5428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75428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75428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7340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86000" y="40384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366720" y="42102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63600" y="4038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00400" y="1219320"/>
            <a:ext cx="100332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428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86680" y="257796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286680" y="29592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286680" y="334008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286680" y="372096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7351200" y="38736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948440" y="37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54600" y="3720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54600" y="3340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54600" y="295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754600" y="2577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4080" y="2120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611600" y="11494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86680" y="1130400"/>
            <a:ext cx="1066680" cy="1447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7354800" y="3973320"/>
            <a:ext cx="473040" cy="301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964280" y="4102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201080" y="128268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58579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28668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28668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286680" y="32767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7322760" y="121932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91964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754600" y="3276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54600" y="2895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754600" y="2514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374080" y="20574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11600" y="108576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28668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943280" y="26035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43280" y="298440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943280" y="336564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943280" y="3746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3007800" y="389880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28720" y="376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11200" y="374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411200" y="3365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11200" y="2984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411200" y="2603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030680" y="21463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68200" y="117468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943280" y="115560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3011400" y="3998880"/>
            <a:ext cx="473040" cy="301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857680" y="1308240"/>
            <a:ext cx="1002960" cy="251460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81200" y="412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7392960" y="3452760"/>
            <a:ext cx="473040" cy="301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86240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7816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w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inish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689440" y="4711680"/>
            <a:ext cx="312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4280"/>
                <a:tab algn="l" pos="3147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86400" y="2514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86400" y="2895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zi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551280" y="304812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64000" y="289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9440" y="1828800"/>
            <a:ext cx="11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it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86400" y="1066680"/>
            <a:ext cx="106668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6551280" y="121932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148160" y="104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2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d &amp; restored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dn’t do so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070000" y="245124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070000" y="28321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070000" y="321300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3106440" y="115560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703320" y="98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538280" y="3213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538280" y="2832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538280" y="2451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57760" y="19940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5280" y="1022400"/>
            <a:ext cx="11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w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70000" y="1003320"/>
            <a:ext cx="1067040" cy="144792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 flipV="1">
            <a:off x="3176640" y="3389400"/>
            <a:ext cx="473040" cy="301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46080" y="351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4678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aving Conven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3120" y="1220760"/>
            <a:ext cx="8282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procedur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yo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h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o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Register be Used for Temporary Storag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ents of 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verwritt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0880" y="2840040"/>
            <a:ext cx="3781440" cy="20091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o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5213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wh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dx,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0" y="2840040"/>
            <a:ext cx="3781440" cy="1734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o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91125,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4678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aving Conven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3120" y="1220760"/>
            <a:ext cx="8282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procedur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yo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h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o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h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Register be Used for Temporary Storag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r Sav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r saves temporary in its frame before call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e Sav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e saves temporary in its frame before u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0610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/Linux Register Us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693960" cy="567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have special u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b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s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e managed as callee-sa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b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si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di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ld values saved on stack prior to u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e managed as caller-sa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a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d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c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 what you please, but expect any callee to do so, as we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stores return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324480" y="16002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324480" y="20574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324480" y="2514600"/>
            <a:ext cx="2514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324480" y="29718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324480" y="34290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324480" y="3886200"/>
            <a:ext cx="2514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324480" y="43434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24480" y="4800600"/>
            <a:ext cx="2514600" cy="3808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38680" y="16002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38680" y="2971800"/>
            <a:ext cx="533520" cy="1295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4343400"/>
            <a:ext cx="533520" cy="8380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90960" y="19051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-Sa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41720" y="327672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e-Sa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mporar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573440" y="45720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7772400" y="2971800"/>
            <a:ext cx="60948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391520" y="3733920"/>
            <a:ext cx="60948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934320" y="4800600"/>
            <a:ext cx="60948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20120" y="2133720"/>
            <a:ext cx="60948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5486400" y="1828800"/>
            <a:ext cx="2971800" cy="3886200"/>
            <a:chOff x="5486400" y="1828800"/>
            <a:chExt cx="2971800" cy="3886200"/>
          </a:xfrm>
        </p:grpSpPr>
        <p:sp>
          <p:nvSpPr>
            <p:cNvPr id="803" name=""/>
            <p:cNvSpPr/>
            <p:nvPr/>
          </p:nvSpPr>
          <p:spPr>
            <a:xfrm>
              <a:off x="5486400" y="5410080"/>
              <a:ext cx="297180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86400" y="1828800"/>
              <a:ext cx="297180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838080" y="914400"/>
            <a:ext cx="3400560" cy="2283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rfact(x-1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57800" y="152280"/>
            <a:ext cx="3505320" cy="6946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globl rfac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yp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rfact,@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7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1(%eb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rfac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53341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cursive Factoria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4191120" cy="18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sed without first sav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sed, but save at beginning &amp; restore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55879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Stack Setu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887640" y="129528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tering 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66880" y="44956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48769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35160" y="4876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35160" y="4495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1674360" y="5257800"/>
            <a:ext cx="99396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1905120" y="4874760"/>
            <a:ext cx="1440" cy="13748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905120" y="3581280"/>
            <a:ext cx="1440" cy="1371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449360" y="3962520"/>
            <a:ext cx="8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731760" y="5238720"/>
            <a:ext cx="1326240" cy="368280"/>
            <a:chOff x="3731760" y="5238720"/>
            <a:chExt cx="1326240" cy="368280"/>
          </a:xfrm>
        </p:grpSpPr>
        <p:sp>
          <p:nvSpPr>
            <p:cNvPr id="822" name=""/>
            <p:cNvSpPr/>
            <p:nvPr/>
          </p:nvSpPr>
          <p:spPr>
            <a:xfrm>
              <a:off x="4328640" y="5238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731760" y="5410080"/>
              <a:ext cx="4604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135160" y="5257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2666880" y="5638680"/>
            <a:ext cx="2406960" cy="381240"/>
            <a:chOff x="2666880" y="5638680"/>
            <a:chExt cx="2406960" cy="381240"/>
          </a:xfrm>
        </p:grpSpPr>
        <p:sp>
          <p:nvSpPr>
            <p:cNvPr id="826" name=""/>
            <p:cNvSpPr/>
            <p:nvPr/>
          </p:nvSpPr>
          <p:spPr>
            <a:xfrm>
              <a:off x="4344480" y="5638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666880" y="56386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747600" y="5810400"/>
              <a:ext cx="4604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2135160" y="5638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49360" y="541008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lle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992160" y="1066680"/>
            <a:ext cx="3624480" cy="1373400"/>
            <a:chOff x="992160" y="1066680"/>
            <a:chExt cx="3624480" cy="1373400"/>
          </a:xfrm>
        </p:grpSpPr>
        <p:sp>
          <p:nvSpPr>
            <p:cNvPr id="832" name=""/>
            <p:cNvSpPr/>
            <p:nvPr/>
          </p:nvSpPr>
          <p:spPr>
            <a:xfrm>
              <a:off x="2209680" y="1676520"/>
              <a:ext cx="106704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209680" y="2057400"/>
              <a:ext cx="106704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1217160" y="2438280"/>
              <a:ext cx="99396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447920" y="1066680"/>
              <a:ext cx="1440" cy="1371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92160" y="1523880"/>
              <a:ext cx="814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all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290400" y="2228760"/>
              <a:ext cx="4604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87280" y="2057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3871440" y="9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209680" y="914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274560" y="110016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09680" y="12952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666880" y="37339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666880" y="41148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666880" y="3886200"/>
            <a:ext cx="1917720" cy="1752480"/>
            <a:chOff x="2666880" y="3886200"/>
            <a:chExt cx="1917720" cy="1752480"/>
          </a:xfrm>
        </p:grpSpPr>
        <p:sp>
          <p:nvSpPr>
            <p:cNvPr id="846" name=""/>
            <p:cNvSpPr/>
            <p:nvPr/>
          </p:nvSpPr>
          <p:spPr>
            <a:xfrm>
              <a:off x="2666880" y="525780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81280" y="3886200"/>
              <a:ext cx="1003320" cy="144792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5334120" y="2514600"/>
            <a:ext cx="350496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31240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Bod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038480" y="4038480"/>
            <a:ext cx="4889520" cy="22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bx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ored value of 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a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mporary value of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x-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ed value from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rfact(x-1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ed value from this c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19520" y="380880"/>
            <a:ext cx="5867280" cy="3106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$1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are x :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7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Te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1(%eb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rfac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fact(x-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 *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.L7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Ter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51460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7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3886200"/>
            <a:ext cx="340020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val =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fact(x-1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val *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13080" y="1244520"/>
            <a:ext cx="507960" cy="1028880"/>
          </a:xfrm>
          <a:custGeom>
            <a:avLst/>
            <a:gdLst>
              <a:gd name="textAreaLeft" fmla="*/ 324720 w 507960"/>
              <a:gd name="textAreaRight" fmla="*/ 508320 w 507960"/>
              <a:gd name="textAreaTop" fmla="*/ 26640 h 1028880"/>
              <a:gd name="textAreaBottom" fmla="*/ 1002240 h 10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00360" y="15098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cur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4953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Stack Po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446076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p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op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perand at 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191120" y="3962520"/>
            <a:ext cx="1520640" cy="911880"/>
            <a:chOff x="4191120" y="3962520"/>
            <a:chExt cx="1520640" cy="911880"/>
          </a:xfrm>
        </p:grpSpPr>
        <p:sp>
          <p:nvSpPr>
            <p:cNvPr id="125" name=""/>
            <p:cNvSpPr/>
            <p:nvPr/>
          </p:nvSpPr>
          <p:spPr>
            <a:xfrm>
              <a:off x="5203800" y="4700520"/>
              <a:ext cx="50796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91120" y="3962520"/>
              <a:ext cx="9694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715000" y="1981080"/>
            <a:ext cx="1292400" cy="320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3809880"/>
            <a:ext cx="1440" cy="1371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29520" y="4111560"/>
            <a:ext cx="156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Grow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231320" y="1598400"/>
            <a:ext cx="1347480" cy="1298520"/>
            <a:chOff x="7231320" y="1598400"/>
            <a:chExt cx="1347480" cy="1298520"/>
          </a:xfrm>
        </p:grpSpPr>
        <p:sp>
          <p:nvSpPr>
            <p:cNvPr id="131" name=""/>
            <p:cNvSpPr/>
            <p:nvPr/>
          </p:nvSpPr>
          <p:spPr>
            <a:xfrm flipV="1">
              <a:off x="7915320" y="1598400"/>
              <a:ext cx="1440" cy="1298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31320" y="2001960"/>
              <a:ext cx="1347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crea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423480" y="563868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4876920"/>
            <a:ext cx="129528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1160" y="838080"/>
            <a:ext cx="188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79880" y="1295280"/>
            <a:ext cx="46044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5029200"/>
            <a:ext cx="507960" cy="1440"/>
          </a:xfrm>
          <a:prstGeom prst="line">
            <a:avLst/>
          </a:prstGeom>
          <a:ln w="255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15040" y="4716360"/>
            <a:ext cx="323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334120" y="4722480"/>
            <a:ext cx="1440" cy="30780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4876920"/>
            <a:ext cx="129240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541560" y="4875120"/>
            <a:ext cx="546120" cy="6890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914400" y="39625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57657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Recur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0384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5103360" y="29718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51952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38480" y="320040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3657600" y="1523880"/>
            <a:ext cx="2591280" cy="2482920"/>
            <a:chOff x="3657600" y="1523880"/>
            <a:chExt cx="2591280" cy="2482920"/>
          </a:xfrm>
        </p:grpSpPr>
        <p:sp>
          <p:nvSpPr>
            <p:cNvPr id="864" name=""/>
            <p:cNvSpPr/>
            <p:nvPr/>
          </p:nvSpPr>
          <p:spPr>
            <a:xfrm>
              <a:off x="3657600" y="1523880"/>
              <a:ext cx="160020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ushl 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5103360" y="3809880"/>
              <a:ext cx="4604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1952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38480" y="35812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3657600" y="2819520"/>
            <a:ext cx="38088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038480" y="464832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352680" y="46483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038480" y="502920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52680" y="50292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14400" y="13716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17524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14400" y="21337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1979280" y="22860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455560" y="2128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14400" y="25146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1995120" y="268596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471400" y="25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2133720"/>
            <a:ext cx="38088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8600" y="39625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14400" y="43434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8600" y="43434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152280" y="838080"/>
            <a:ext cx="2667240" cy="3505320"/>
            <a:chOff x="152280" y="838080"/>
            <a:chExt cx="2667240" cy="3505320"/>
          </a:xfrm>
        </p:grpSpPr>
        <p:sp>
          <p:nvSpPr>
            <p:cNvPr id="886" name=""/>
            <p:cNvSpPr/>
            <p:nvPr/>
          </p:nvSpPr>
          <p:spPr>
            <a:xfrm>
              <a:off x="914400" y="3962520"/>
              <a:ext cx="106668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-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52280" y="838080"/>
              <a:ext cx="266724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eal -1(%ebx),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6781680" y="29718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81680" y="3352680"/>
            <a:ext cx="106704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81680" y="37339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7846560" y="38862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262720" y="3714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81680" y="411480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81680" y="44956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477120" y="3733920"/>
            <a:ext cx="38088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81680" y="556272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95880" y="55627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81680" y="5943600"/>
            <a:ext cx="106704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5880" y="594360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6400800" y="2438280"/>
            <a:ext cx="2591280" cy="2820960"/>
            <a:chOff x="6400800" y="2438280"/>
            <a:chExt cx="2591280" cy="2820960"/>
          </a:xfrm>
        </p:grpSpPr>
        <p:sp>
          <p:nvSpPr>
            <p:cNvPr id="901" name=""/>
            <p:cNvSpPr/>
            <p:nvPr/>
          </p:nvSpPr>
          <p:spPr>
            <a:xfrm flipH="1">
              <a:off x="7846560" y="5029200"/>
              <a:ext cx="4604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262720" y="48578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81680" y="487692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00800" y="5257800"/>
              <a:ext cx="38088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477120" y="2438280"/>
              <a:ext cx="167616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all rfac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51562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Res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486400" y="20574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486400" y="24382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486400" y="2819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6551280" y="29718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96708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486400" y="32004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6551280" y="380988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96708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486400" y="35812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105520" y="2819520"/>
            <a:ext cx="38088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4952880" y="1523880"/>
            <a:ext cx="2362320" cy="3505320"/>
            <a:chOff x="4952880" y="1523880"/>
            <a:chExt cx="2362320" cy="3505320"/>
          </a:xfrm>
        </p:grpSpPr>
        <p:sp>
          <p:nvSpPr>
            <p:cNvPr id="919" name=""/>
            <p:cNvSpPr/>
            <p:nvPr/>
          </p:nvSpPr>
          <p:spPr>
            <a:xfrm>
              <a:off x="4952880" y="1523880"/>
              <a:ext cx="2362320" cy="3632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mull %ebx,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486400" y="4648320"/>
              <a:ext cx="1066680" cy="380880"/>
            </a:xfrm>
            <a:prstGeom prst="rect">
              <a:avLst/>
            </a:prstGeom>
            <a:solidFill>
              <a:srgbClr val="99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4800600" y="4648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86400" y="50292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800600" y="50292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371600" y="20574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371600" y="24382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71600" y="28195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2436480" y="29718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852280" y="280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71600" y="32004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2436480" y="3809880"/>
            <a:ext cx="4604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52280" y="363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371600" y="35812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90720" y="2819520"/>
            <a:ext cx="38088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716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85800" y="464832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71600" y="50292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85800" y="50292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838080" y="1523880"/>
            <a:ext cx="21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from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371600" y="46483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85800" y="5562720"/>
            <a:ext cx="30481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tha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fact(x-1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return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x-1)!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n regist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56134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fact Comple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85800" y="182880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5800" y="22096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85800" y="259092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1750680" y="27432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134800" y="2571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54080" y="2590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4080" y="2209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54080" y="1828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800" y="2971800"/>
            <a:ext cx="106668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1766520" y="352440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5064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54080" y="2971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5800" y="411480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4114800"/>
            <a:ext cx="609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800" y="4495680"/>
            <a:ext cx="106668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44956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5800" y="3352680"/>
            <a:ext cx="106668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4080" y="3352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85800" y="1066680"/>
            <a:ext cx="1066680" cy="3812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5800" y="1447920"/>
            <a:ext cx="106668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600200" y="1219320"/>
            <a:ext cx="1003320" cy="1447560"/>
          </a:xfrm>
          <a:custGeom>
            <a:avLst/>
            <a:gdLst/>
            <a:ahLst/>
            <a:rect l="l" t="t" r="r" b="b"/>
            <a:pathLst>
              <a:path w="632" h="1584">
                <a:moveTo>
                  <a:pt x="0" y="1584"/>
                </a:moveTo>
                <a:cubicBezTo>
                  <a:pt x="100" y="1584"/>
                  <a:pt x="200" y="1584"/>
                  <a:pt x="288" y="1536"/>
                </a:cubicBezTo>
                <a:cubicBezTo>
                  <a:pt x="376" y="1488"/>
                  <a:pt x="472" y="1408"/>
                  <a:pt x="528" y="1296"/>
                </a:cubicBezTo>
                <a:cubicBezTo>
                  <a:pt x="584" y="1184"/>
                  <a:pt x="616" y="1008"/>
                  <a:pt x="624" y="864"/>
                </a:cubicBezTo>
                <a:cubicBezTo>
                  <a:pt x="632" y="720"/>
                  <a:pt x="624" y="560"/>
                  <a:pt x="576" y="432"/>
                </a:cubicBezTo>
                <a:cubicBezTo>
                  <a:pt x="528" y="304"/>
                  <a:pt x="416" y="168"/>
                  <a:pt x="336" y="96"/>
                </a:cubicBezTo>
                <a:cubicBezTo>
                  <a:pt x="256" y="24"/>
                  <a:pt x="136" y="16"/>
                  <a:pt x="96" y="0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2971800" y="2133720"/>
            <a:ext cx="2880000" cy="3276360"/>
            <a:chOff x="2971800" y="2133720"/>
            <a:chExt cx="2880000" cy="3276360"/>
          </a:xfrm>
        </p:grpSpPr>
        <p:sp>
          <p:nvSpPr>
            <p:cNvPr id="966" name=""/>
            <p:cNvSpPr/>
            <p:nvPr/>
          </p:nvSpPr>
          <p:spPr>
            <a:xfrm>
              <a:off x="3657600" y="28954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657600" y="3276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657600" y="365760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4722480" y="3809880"/>
              <a:ext cx="4604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10660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2588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12588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12588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4690800" y="3960360"/>
              <a:ext cx="507960" cy="189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22440" y="3976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57600" y="464832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971800" y="46483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657600" y="502920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971800" y="50292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57600" y="21337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657600" y="25146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72000" y="2286000"/>
              <a:ext cx="1003320" cy="1447920"/>
            </a:xfrm>
            <a:custGeom>
              <a:avLst/>
              <a:gdLst/>
              <a:ahLst/>
              <a:rect l="l" t="t" r="r" b="b"/>
              <a:pathLst>
                <a:path w="632" h="1584">
                  <a:moveTo>
                    <a:pt x="0" y="1584"/>
                  </a:moveTo>
                  <a:cubicBezTo>
                    <a:pt x="100" y="1584"/>
                    <a:pt x="200" y="1584"/>
                    <a:pt x="288" y="1536"/>
                  </a:cubicBezTo>
                  <a:cubicBezTo>
                    <a:pt x="376" y="1488"/>
                    <a:pt x="472" y="1408"/>
                    <a:pt x="528" y="1296"/>
                  </a:cubicBezTo>
                  <a:cubicBezTo>
                    <a:pt x="584" y="1184"/>
                    <a:pt x="616" y="1008"/>
                    <a:pt x="624" y="864"/>
                  </a:cubicBezTo>
                  <a:cubicBezTo>
                    <a:pt x="632" y="720"/>
                    <a:pt x="624" y="560"/>
                    <a:pt x="576" y="432"/>
                  </a:cubicBezTo>
                  <a:cubicBezTo>
                    <a:pt x="528" y="304"/>
                    <a:pt x="416" y="168"/>
                    <a:pt x="336" y="96"/>
                  </a:cubicBezTo>
                  <a:cubicBezTo>
                    <a:pt x="256" y="24"/>
                    <a:pt x="136" y="16"/>
                    <a:pt x="96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685800" y="4495680"/>
            <a:ext cx="1066680" cy="3812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410080" y="304920"/>
            <a:ext cx="3505320" cy="1186200"/>
          </a:xfrm>
          <a:prstGeom prst="rect">
            <a:avLst/>
          </a:prstGeom>
          <a:solidFill>
            <a:srgbClr val="ccec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5959440" y="2590920"/>
            <a:ext cx="2880000" cy="3276360"/>
            <a:chOff x="5959440" y="2590920"/>
            <a:chExt cx="2880000" cy="3276360"/>
          </a:xfrm>
        </p:grpSpPr>
        <p:sp>
          <p:nvSpPr>
            <p:cNvPr id="986" name=""/>
            <p:cNvSpPr/>
            <p:nvPr/>
          </p:nvSpPr>
          <p:spPr>
            <a:xfrm>
              <a:off x="6645240" y="3352680"/>
              <a:ext cx="1066680" cy="38124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645240" y="37339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7710120" y="2762280"/>
              <a:ext cx="4604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094240" y="2590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110080" y="3747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645240" y="510552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59440" y="510552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645240" y="5486400"/>
              <a:ext cx="1066680" cy="380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959440" y="5486400"/>
              <a:ext cx="6094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45240" y="259092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645240" y="2971800"/>
              <a:ext cx="1066680" cy="380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e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7694280" y="3886200"/>
              <a:ext cx="4604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2200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838080" y="1295280"/>
            <a:ext cx="370548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x &lt;= 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 (x-1,accum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257800" y="1371600"/>
            <a:ext cx="3400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411880" y="9144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-Level Ca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46240" y="83808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ursive Procedu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90520" y="4920840"/>
            <a:ext cx="83073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pointer to updat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6553080" y="2819520"/>
            <a:ext cx="2406960" cy="1523880"/>
            <a:chOff x="6553080" y="2819520"/>
            <a:chExt cx="2406960" cy="1523880"/>
          </a:xfrm>
        </p:grpSpPr>
        <p:sp>
          <p:nvSpPr>
            <p:cNvPr id="1005" name=""/>
            <p:cNvSpPr/>
            <p:nvPr/>
          </p:nvSpPr>
          <p:spPr>
            <a:xfrm>
              <a:off x="6553080" y="2819520"/>
              <a:ext cx="1067040" cy="1523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emp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pac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633800" y="4133880"/>
              <a:ext cx="4604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230680" y="3962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2896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eating &amp; Initializ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800600" y="4724280"/>
            <a:ext cx="3400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b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28240" y="3352320"/>
            <a:ext cx="4267080" cy="31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ing Stack for Local Varia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stored on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to create pointer to 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pointer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4(%eb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on stack as second arg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217880" y="9907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itial part of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7617960" y="2419200"/>
            <a:ext cx="1326240" cy="368280"/>
            <a:chOff x="7617960" y="2419200"/>
            <a:chExt cx="1326240" cy="368280"/>
          </a:xfrm>
        </p:grpSpPr>
        <p:sp>
          <p:nvSpPr>
            <p:cNvPr id="1017" name=""/>
            <p:cNvSpPr/>
            <p:nvPr/>
          </p:nvSpPr>
          <p:spPr>
            <a:xfrm flipH="1">
              <a:off x="7617960" y="2590920"/>
              <a:ext cx="4604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214840" y="2419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590040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90040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90040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90040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6553080" y="2819520"/>
            <a:ext cx="1067040" cy="1523880"/>
            <a:chOff x="6553080" y="2819520"/>
            <a:chExt cx="1067040" cy="1523880"/>
          </a:xfrm>
        </p:grpSpPr>
        <p:sp>
          <p:nvSpPr>
            <p:cNvPr id="1024" name=""/>
            <p:cNvSpPr/>
            <p:nvPr/>
          </p:nvSpPr>
          <p:spPr>
            <a:xfrm>
              <a:off x="6553080" y="281952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al =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553080" y="3200400"/>
              <a:ext cx="1067040" cy="11430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us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590040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0040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90076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%esp,%eb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subl $16,%esp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1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0880" y="15238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fac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 $16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dd 16 by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$1,-4(%ebp)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9054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ss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62120" y="3886200"/>
            <a:ext cx="340020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fact(int 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_helper(x,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&amp;v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-4(%ebp),%ea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a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_helpe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218960" y="9907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_help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fa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553080" y="167652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553080" y="2057400"/>
            <a:ext cx="106704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553080" y="2438280"/>
            <a:ext cx="106704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ld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7617960" y="2590920"/>
            <a:ext cx="4604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214840" y="241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90040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900400" y="205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900400" y="167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l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00400" y="2819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553080" y="3200400"/>
            <a:ext cx="10670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us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90040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00400" y="32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900760" y="3962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6553080" y="4724280"/>
            <a:ext cx="2391120" cy="425520"/>
            <a:chOff x="6553080" y="4724280"/>
            <a:chExt cx="2391120" cy="425520"/>
          </a:xfrm>
        </p:grpSpPr>
        <p:sp>
          <p:nvSpPr>
            <p:cNvPr id="1051" name=""/>
            <p:cNvSpPr/>
            <p:nvPr/>
          </p:nvSpPr>
          <p:spPr>
            <a:xfrm flipH="1">
              <a:off x="7617960" y="4952880"/>
              <a:ext cx="4604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214840" y="4781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553080" y="4724280"/>
              <a:ext cx="1067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6553080" y="2935440"/>
            <a:ext cx="1944720" cy="1788840"/>
            <a:chOff x="6553080" y="2935440"/>
            <a:chExt cx="1944720" cy="1788840"/>
          </a:xfrm>
        </p:grpSpPr>
        <p:sp>
          <p:nvSpPr>
            <p:cNvPr id="1055" name=""/>
            <p:cNvSpPr/>
            <p:nvPr/>
          </p:nvSpPr>
          <p:spPr>
            <a:xfrm>
              <a:off x="6553080" y="4343400"/>
              <a:ext cx="1067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&amp;v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467480" y="2935440"/>
              <a:ext cx="1030320" cy="1592280"/>
            </a:xfrm>
            <a:custGeom>
              <a:avLst/>
              <a:gdLst/>
              <a:ahLst/>
              <a:rect l="l" t="t" r="r" b="b"/>
              <a:pathLst>
                <a:path w="649" h="1003">
                  <a:moveTo>
                    <a:pt x="0" y="983"/>
                  </a:moveTo>
                  <a:cubicBezTo>
                    <a:pt x="120" y="1003"/>
                    <a:pt x="243" y="983"/>
                    <a:pt x="336" y="935"/>
                  </a:cubicBezTo>
                  <a:cubicBezTo>
                    <a:pt x="429" y="887"/>
                    <a:pt x="512" y="789"/>
                    <a:pt x="560" y="695"/>
                  </a:cubicBezTo>
                  <a:cubicBezTo>
                    <a:pt x="608" y="601"/>
                    <a:pt x="649" y="474"/>
                    <a:pt x="624" y="367"/>
                  </a:cubicBezTo>
                  <a:cubicBezTo>
                    <a:pt x="599" y="260"/>
                    <a:pt x="495" y="110"/>
                    <a:pt x="408" y="55"/>
                  </a:cubicBezTo>
                  <a:cubicBezTo>
                    <a:pt x="321" y="0"/>
                    <a:pt x="167" y="42"/>
                    <a:pt x="104" y="39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6099120" y="12193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tack at time of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pushl %edx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s_helpe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80880" y="1752480"/>
            <a:ext cx="5486400" cy="173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ompute &amp;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on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call s_helper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#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urn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53080" y="2819520"/>
            <a:ext cx="106704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l =x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359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Poi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209680" y="3505320"/>
            <a:ext cx="6248520" cy="1460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805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805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805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*= *acc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805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accum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2805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62120" y="914400"/>
            <a:ext cx="340020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_hel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*accu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 = *accum *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accum = 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290520" y="5284440"/>
            <a:ext cx="830736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old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olds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acces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%edx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referenc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6477120" y="1600200"/>
            <a:ext cx="2391120" cy="380880"/>
            <a:chOff x="6477120" y="1600200"/>
            <a:chExt cx="2391120" cy="380880"/>
          </a:xfrm>
        </p:grpSpPr>
        <p:sp>
          <p:nvSpPr>
            <p:cNvPr id="1066" name=""/>
            <p:cNvSpPr/>
            <p:nvPr/>
          </p:nvSpPr>
          <p:spPr>
            <a:xfrm flipH="1">
              <a:off x="7542360" y="1771560"/>
              <a:ext cx="46008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138880" y="1600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77120" y="1600200"/>
              <a:ext cx="1066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cc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6477120" y="2590920"/>
            <a:ext cx="1066680" cy="3808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5640120" y="2209680"/>
            <a:ext cx="1903680" cy="381240"/>
            <a:chOff x="5640120" y="2209680"/>
            <a:chExt cx="1903680" cy="381240"/>
          </a:xfrm>
        </p:grpSpPr>
        <p:sp>
          <p:nvSpPr>
            <p:cNvPr id="1071" name=""/>
            <p:cNvSpPr/>
            <p:nvPr/>
          </p:nvSpPr>
          <p:spPr>
            <a:xfrm>
              <a:off x="6477120" y="2209680"/>
              <a:ext cx="1066680" cy="38124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40120" y="220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5640120" y="2604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477120" y="2209680"/>
            <a:ext cx="1066680" cy="3812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um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477120" y="1600200"/>
            <a:ext cx="106668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um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467160" y="228600"/>
            <a:ext cx="22096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tack Makes Recursion Wor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vate storage for eac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nstan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procedure 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antiations don’t clobber each o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ing of locals + arguments can be relative to stack pos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managed by stack discip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s return in inverse order of ca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A32 Procedures Combination of Instructions + 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/ Ret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usage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ller / Callee sa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frame organization conven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94360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5181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419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800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3352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3352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3352680"/>
            <a:ext cx="1371600" cy="38124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7561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80060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51814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2560" y="12193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971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5909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22096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4419720"/>
            <a:ext cx="13716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29718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17524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51814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4800600"/>
            <a:ext cx="1371600" cy="3808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40320" y="1219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51814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3526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678960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307360" cy="55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552960" indent="-218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tack to support procedure call and retu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cal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all </a:t>
            </a:r>
            <a:r>
              <a:rPr b="1" i="1" lang="en-US" sz="2400" spc="-1" strike="noStrike">
                <a:solidFill>
                  <a:srgbClr val="003300"/>
                </a:solidFill>
                <a:latin typeface="Courier New"/>
              </a:rPr>
              <a:t>label</a:t>
            </a:r>
            <a:r>
              <a:rPr b="1" i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ush return address on stack; Jump to </a:t>
            </a:r>
            <a:r>
              <a:rPr b="1" i="1" lang="en-US" sz="2400" spc="-1" strike="noStrike">
                <a:solidFill>
                  <a:srgbClr val="003300"/>
                </a:solidFill>
                <a:latin typeface="Courier New"/>
              </a:rPr>
              <a:t>lab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address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2960" indent="-218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of instruction bey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2960" indent="-218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 from disassemb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804854e: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e8 3d 06 00 00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all   8048b90 &lt;main&gt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8048553: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50            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ushl  %ea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829440" indent="-1616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address =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804855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retur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2960" indent="-218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 address from stack; Jump to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4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4038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4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4038480"/>
            <a:ext cx="1371600" cy="3812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Call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11320" y="1905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  8048b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4960" y="990720"/>
            <a:ext cx="76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4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8 3d 06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  8048b90 &lt;mai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5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0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99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b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0080" y="586728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 program cou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89548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4038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47242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3341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5334120"/>
            <a:ext cx="1371600" cy="3808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4724280"/>
            <a:ext cx="1371600" cy="3812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548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40384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80010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dure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36576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327672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2895480"/>
            <a:ext cx="1371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15200" y="3657600"/>
            <a:ext cx="137160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15200" y="2438280"/>
            <a:ext cx="1371600" cy="12193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560" y="1905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4960" y="99072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59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15200" y="4724280"/>
            <a:ext cx="1371600" cy="381240"/>
          </a:xfrm>
          <a:prstGeom prst="rect">
            <a:avLst/>
          </a:prstGeom>
          <a:solidFill>
            <a:srgbClr val="66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40080" y="586728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ip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 program cou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5334120"/>
            <a:ext cx="137160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4038480"/>
            <a:ext cx="1371600" cy="3812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04855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85800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-Based Langu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nguages that Support Recu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C, Pascal, Ja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must be “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entra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e simultaneous instantiations of single proced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some place to store state of each instant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gu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cal variab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 Discip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for given procedure needed for limited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when called to when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e returns before caller do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 Allocated i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Fra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for single procedure instant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Office 2004 Test Drive User</cp:lastModifiedBy>
  <cp:lastPrinted>1998-08-31T18:34:23Z</cp:lastPrinted>
  <dcterms:modified xsi:type="dcterms:W3CDTF">2007-10-10T00:48:57Z</dcterms:modified>
  <cp:revision>83</cp:revision>
  <dc:subject/>
  <dc:title>Machine Level Programming III</dc:title>
</cp:coreProperties>
</file>